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内容占位符 5122" descr="logo"/>
          <p:cNvPicPr/>
          <p:nvPr/>
        </p:nvPicPr>
        <p:blipFill>
          <a:blip r:embed="rId3"/>
          <a:stretch/>
        </p:blipFill>
        <p:spPr>
          <a:xfrm>
            <a:off x="0" y="33480"/>
            <a:ext cx="1836720" cy="522000"/>
          </a:xfrm>
          <a:prstGeom prst="rect">
            <a:avLst/>
          </a:prstGeom>
          <a:ln w="0">
            <a:noFill/>
          </a:ln>
        </p:spPr>
      </p:pic>
      <p:pic>
        <p:nvPicPr>
          <p:cNvPr id="1" name="矩形 6" descr=""/>
          <p:cNvPicPr/>
          <p:nvPr/>
        </p:nvPicPr>
        <p:blipFill>
          <a:blip r:embed="rId4"/>
          <a:stretch/>
        </p:blipFill>
        <p:spPr>
          <a:xfrm>
            <a:off x="4187880" y="4614840"/>
            <a:ext cx="499248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9"/>
          <p:cNvSpPr/>
          <p:nvPr/>
        </p:nvSpPr>
        <p:spPr>
          <a:xfrm>
            <a:off x="1116000" y="1708200"/>
            <a:ext cx="5562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矩阵初等变换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1187280" y="2284560"/>
            <a:ext cx="4896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初等矩阵的定义、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11"/>
          <p:cNvSpPr/>
          <p:nvPr/>
        </p:nvSpPr>
        <p:spPr>
          <a:xfrm>
            <a:off x="1116000" y="2860560"/>
            <a:ext cx="705816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初等矩阵在矩阵乘法中的作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12"/>
          <p:cNvSpPr/>
          <p:nvPr/>
        </p:nvSpPr>
        <p:spPr>
          <a:xfrm>
            <a:off x="1933560" y="3363840"/>
            <a:ext cx="34128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求逆矩阵的初等行变换法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3"/>
          <p:cNvSpPr/>
          <p:nvPr/>
        </p:nvSpPr>
        <p:spPr>
          <a:xfrm>
            <a:off x="2660760" y="771480"/>
            <a:ext cx="372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第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节  矩阵的初等变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979640" y="3273480"/>
            <a:ext cx="53276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MV Boli"/>
                <a:ea typeface="仿宋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484360" y="1006560"/>
            <a:ext cx="4391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5440" cy="5143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zh-CN" sz="4800" spc="-1" strike="noStrike">
                <a:solidFill>
                  <a:srgbClr val="000099"/>
                </a:solidFill>
                <a:latin typeface="仿宋"/>
                <a:ea typeface="仿宋"/>
              </a:rPr>
              <a:t>线 性 代 数</a:t>
            </a:r>
            <a:br>
              <a:rPr sz="4800"/>
            </a:b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000099"/>
                </a:solidFill>
                <a:latin typeface="仿宋"/>
                <a:ea typeface="仿宋"/>
              </a:rPr>
              <a:t>惠州学院数学系线性代数课程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84333" b="0"/>
          <a:stretch/>
        </p:blipFill>
        <p:spPr>
          <a:xfrm>
            <a:off x="1763640" y="2787480"/>
            <a:ext cx="1752840" cy="96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rcRect l="33350" t="0" r="51525" b="0"/>
          <a:stretch/>
        </p:blipFill>
        <p:spPr>
          <a:xfrm>
            <a:off x="4645080" y="1851120"/>
            <a:ext cx="1693800" cy="96192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4"/>
          <p:cNvGrpSpPr/>
          <p:nvPr/>
        </p:nvGrpSpPr>
        <p:grpSpPr>
          <a:xfrm>
            <a:off x="783720" y="915840"/>
            <a:ext cx="4341240" cy="901800"/>
            <a:chOff x="783720" y="915840"/>
            <a:chExt cx="4341240" cy="901800"/>
          </a:xfrm>
        </p:grpSpPr>
        <p:sp>
          <p:nvSpPr>
            <p:cNvPr id="46" name="Text Box 5"/>
            <p:cNvSpPr/>
            <p:nvPr/>
          </p:nvSpPr>
          <p:spPr>
            <a:xfrm>
              <a:off x="783720" y="1130040"/>
              <a:ext cx="434124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         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设                  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则有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6" descr=""/>
            <p:cNvPicPr/>
            <p:nvPr/>
          </p:nvPicPr>
          <p:blipFill>
            <a:blip r:embed="rId3"/>
            <a:stretch/>
          </p:blipFill>
          <p:spPr>
            <a:xfrm>
              <a:off x="2512800" y="915840"/>
              <a:ext cx="1752120" cy="90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7" descr=""/>
          <p:cNvPicPr/>
          <p:nvPr/>
        </p:nvPicPr>
        <p:blipFill>
          <a:blip r:embed="rId4"/>
          <a:srcRect l="21128" t="0" r="65935" b="0"/>
          <a:stretch/>
        </p:blipFill>
        <p:spPr>
          <a:xfrm>
            <a:off x="4356000" y="2787480"/>
            <a:ext cx="1447920" cy="9622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8">
            <a:hlinkClick r:id="" action="ppaction://hlinkshowjump?jump=nextslide"/>
          </p:cNvPr>
          <p:cNvSpPr/>
          <p:nvPr/>
        </p:nvSpPr>
        <p:spPr>
          <a:xfrm>
            <a:off x="5224320" y="4921200"/>
            <a:ext cx="13068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3562200" y="3005280"/>
            <a:ext cx="724680" cy="1035720"/>
            <a:chOff x="3562200" y="3005280"/>
            <a:chExt cx="724680" cy="1035720"/>
          </a:xfrm>
        </p:grpSpPr>
        <p:sp>
          <p:nvSpPr>
            <p:cNvPr id="51" name="Text Box 10"/>
            <p:cNvSpPr/>
            <p:nvPr/>
          </p:nvSpPr>
          <p:spPr>
            <a:xfrm>
              <a:off x="3728160" y="3008520"/>
              <a:ext cx="1080" cy="4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562200" y="3005280"/>
              <a:ext cx="724680" cy="10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r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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r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Line 12"/>
          <p:cNvSpPr/>
          <p:nvPr/>
        </p:nvSpPr>
        <p:spPr>
          <a:xfrm>
            <a:off x="3564000" y="3508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332000" y="304920"/>
            <a:ext cx="70578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.   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初等矩阵在矩阵乘法中的作用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39640" y="3724200"/>
            <a:ext cx="86108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左乘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相当于对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作一次相应的初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行变换</a:t>
            </a:r>
            <a:r>
              <a:rPr b="1" lang="zh-CN" sz="2800" spc="-1" strike="noStrike">
                <a:solidFill>
                  <a:srgbClr val="0000cc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15"/>
          <p:cNvGraphicFramePr/>
          <p:nvPr/>
        </p:nvGraphicFramePr>
        <p:xfrm>
          <a:off x="1332000" y="1779480"/>
          <a:ext cx="3313080" cy="104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1779480"/>
                    <a:ext cx="331308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6"/>
          <p:cNvGraphicFramePr/>
          <p:nvPr/>
        </p:nvGraphicFramePr>
        <p:xfrm>
          <a:off x="1116000" y="3795840"/>
          <a:ext cx="51912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3795840"/>
                    <a:ext cx="5191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0" r="84333" b="0"/>
          <a:stretch/>
        </p:blipFill>
        <p:spPr>
          <a:xfrm>
            <a:off x="1620720" y="1733400"/>
            <a:ext cx="196848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rcRect l="21135" t="0" r="64719" b="0"/>
          <a:stretch/>
        </p:blipFill>
        <p:spPr>
          <a:xfrm>
            <a:off x="4429080" y="1781280"/>
            <a:ext cx="1727280" cy="1047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rcRect l="35441" t="0" r="48537" b="0"/>
          <a:stretch/>
        </p:blipFill>
        <p:spPr>
          <a:xfrm>
            <a:off x="4861080" y="628560"/>
            <a:ext cx="2004840" cy="10749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>
            <a:hlinkClick r:id="" action="ppaction://hlinkshowjump?jump=nextslide"/>
          </p:cNvPr>
          <p:cNvSpPr/>
          <p:nvPr/>
        </p:nvSpPr>
        <p:spPr>
          <a:xfrm>
            <a:off x="5224320" y="4921200"/>
            <a:ext cx="13068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3677760" y="2068560"/>
            <a:ext cx="779760" cy="1283760"/>
            <a:chOff x="3677760" y="2068560"/>
            <a:chExt cx="779760" cy="1283760"/>
          </a:xfrm>
        </p:grpSpPr>
        <p:sp>
          <p:nvSpPr>
            <p:cNvPr id="65" name="Text Box 7"/>
            <p:cNvSpPr/>
            <p:nvPr/>
          </p:nvSpPr>
          <p:spPr>
            <a:xfrm>
              <a:off x="3824280" y="2077560"/>
              <a:ext cx="144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3677760" y="2068560"/>
              <a:ext cx="7797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华文中宋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c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华文中宋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Line 9"/>
          <p:cNvSpPr/>
          <p:nvPr/>
        </p:nvSpPr>
        <p:spPr>
          <a:xfrm>
            <a:off x="3635280" y="25718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755640" y="2932200"/>
            <a:ext cx="74167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定理</a:t>
            </a:r>
            <a:r>
              <a:rPr b="1" lang="zh-CN" sz="2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初等矩阵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左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（右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乘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相当于对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作一次相应的初等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行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（列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变换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11"/>
          <p:cNvGraphicFramePr/>
          <p:nvPr/>
        </p:nvGraphicFramePr>
        <p:xfrm>
          <a:off x="1187280" y="700200"/>
          <a:ext cx="3699000" cy="103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87280" y="700200"/>
                    <a:ext cx="36990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>
            <a:hlinkClick r:id="" action="ppaction://hlinkshowjump?jump=nextslide"/>
          </p:cNvPr>
          <p:cNvSpPr/>
          <p:nvPr/>
        </p:nvSpPr>
        <p:spPr>
          <a:xfrm>
            <a:off x="5224320" y="4921200"/>
            <a:ext cx="13068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12720" y="2355840"/>
            <a:ext cx="800100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可逆矩阵总可以经若干次初等行变换后化成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单位矩阵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2720" y="1060560"/>
            <a:ext cx="815328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推论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若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是可逆矩阵，则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经过初等变换后所得矩阵仍为可逆矩阵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183760" y="628560"/>
            <a:ext cx="33523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求逆矩阵的初等行变换法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37400" y="1419120"/>
            <a:ext cx="5166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阶可逆矩阵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显然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也可逆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所以存在初等矩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s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321640" y="2428920"/>
            <a:ext cx="2843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i="1" lang="zh-CN" sz="28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44720" y="1347840"/>
            <a:ext cx="64800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6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i="1" lang="zh-CN" sz="26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即           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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P</a:t>
            </a:r>
            <a:r>
              <a:rPr b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1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P</a:t>
            </a:r>
            <a:r>
              <a:rPr b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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P</a:t>
            </a:r>
            <a:r>
              <a:rPr b="1" i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s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及              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zh-CN" sz="2600" spc="-1" strike="noStrike" baseline="30000">
                <a:solidFill>
                  <a:srgbClr val="000099"/>
                </a:solidFill>
                <a:latin typeface="Times New Roman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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P</a:t>
            </a:r>
            <a:r>
              <a:rPr b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1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P</a:t>
            </a:r>
            <a:r>
              <a:rPr b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2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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P</a:t>
            </a:r>
            <a:r>
              <a:rPr b="1" i="1" lang="zh-CN" sz="2600" spc="-1" strike="noStrike" baseline="-30000">
                <a:solidFill>
                  <a:srgbClr val="000099"/>
                </a:solidFill>
                <a:latin typeface="Times New Roman"/>
                <a:ea typeface="华文中宋"/>
              </a:rPr>
              <a:t>s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注    如果对</a:t>
            </a:r>
            <a:r>
              <a:rPr b="1" i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进行若干次初等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变换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化为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cc0000"/>
                </a:solidFill>
                <a:latin typeface="Symbol"/>
                <a:ea typeface="Symbol"/>
              </a:rPr>
              <a:t>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则对</a:t>
            </a:r>
            <a:r>
              <a:rPr b="1" i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E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进行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同样的初等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变换将化为</a:t>
            </a:r>
            <a:r>
              <a:rPr b="1" i="1" lang="zh-CN" sz="26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A</a:t>
            </a:r>
            <a:r>
              <a:rPr b="1" lang="zh-CN" sz="2600" spc="-1" strike="noStrike" baseline="30000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zh-CN" sz="2600" spc="-1" strike="noStrike" baseline="30000">
                <a:solidFill>
                  <a:srgbClr val="000099"/>
                </a:solidFill>
                <a:latin typeface="Times New Roman"/>
                <a:ea typeface="华文中宋"/>
              </a:rPr>
              <a:t>1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zh-CN" sz="2600" spc="-1" strike="noStrike">
                <a:solidFill>
                  <a:srgbClr val="cc0000"/>
                </a:solidFill>
                <a:latin typeface="Symbol"/>
                <a:ea typeface="Symbol"/>
              </a:rPr>
              <a:t>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"/>
          <p:cNvSpPr/>
          <p:nvPr/>
        </p:nvSpPr>
        <p:spPr>
          <a:xfrm>
            <a:off x="395280" y="1347840"/>
            <a:ext cx="86868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" action="ppaction://hlinkshowjump?jump=nextslide"/>
          </p:cNvPr>
          <p:cNvSpPr/>
          <p:nvPr/>
        </p:nvSpPr>
        <p:spPr>
          <a:xfrm>
            <a:off x="5224320" y="4921200"/>
            <a:ext cx="13068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340360" y="627120"/>
            <a:ext cx="2412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</a:t>
            </a:r>
            <a:r>
              <a:rPr b="1" i="1" lang="zh-CN" sz="2400" spc="-1" strike="noStrike" baseline="-30000">
                <a:solidFill>
                  <a:srgbClr val="000000"/>
                </a:solidFill>
                <a:latin typeface="Times New Roman"/>
                <a:ea typeface="华文中宋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252360" y="1492200"/>
            <a:ext cx="86868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35400" y="628560"/>
            <a:ext cx="4836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设   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求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zh-CN" sz="26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-87480" y="1492200"/>
            <a:ext cx="9608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29520" y="1779480"/>
            <a:ext cx="11350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E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>
            <a:hlinkClick r:id="" action="ppaction://hlinkshowjump?jump=nextslide"/>
          </p:cNvPr>
          <p:cNvSpPr/>
          <p:nvPr/>
        </p:nvSpPr>
        <p:spPr>
          <a:xfrm>
            <a:off x="5224320" y="4921200"/>
            <a:ext cx="130680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下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>
            <a:off x="3419640" y="1708200"/>
            <a:ext cx="0" cy="8427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04000" y="1779480"/>
            <a:ext cx="0" cy="8413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>
            <a:off x="3276720" y="2716200"/>
            <a:ext cx="0" cy="84456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661080" y="2716200"/>
            <a:ext cx="0" cy="8431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3060720" y="3652920"/>
            <a:ext cx="0" cy="8413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2"/>
          <p:cNvGrpSpPr/>
          <p:nvPr/>
        </p:nvGrpSpPr>
        <p:grpSpPr>
          <a:xfrm>
            <a:off x="1908000" y="1636560"/>
            <a:ext cx="2819520" cy="950040"/>
            <a:chOff x="1908000" y="1636560"/>
            <a:chExt cx="2819520" cy="950040"/>
          </a:xfrm>
        </p:grpSpPr>
        <p:pic>
          <p:nvPicPr>
            <p:cNvPr id="92" name="Picture 13" descr=""/>
            <p:cNvPicPr/>
            <p:nvPr/>
          </p:nvPicPr>
          <p:blipFill>
            <a:blip r:embed="rId1"/>
            <a:stretch/>
          </p:blipFill>
          <p:spPr>
            <a:xfrm>
              <a:off x="1908000" y="1636560"/>
              <a:ext cx="3268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4" descr=""/>
            <p:cNvPicPr/>
            <p:nvPr/>
          </p:nvPicPr>
          <p:blipFill>
            <a:blip r:embed="rId2"/>
            <a:stretch/>
          </p:blipFill>
          <p:spPr>
            <a:xfrm>
              <a:off x="4400280" y="1636560"/>
              <a:ext cx="32724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Group 15"/>
            <p:cNvGrpSpPr/>
            <p:nvPr/>
          </p:nvGrpSpPr>
          <p:grpSpPr>
            <a:xfrm>
              <a:off x="2123280" y="1636560"/>
              <a:ext cx="2341800" cy="950040"/>
              <a:chOff x="2123280" y="1636560"/>
              <a:chExt cx="2341800" cy="950040"/>
            </a:xfrm>
          </p:grpSpPr>
          <p:sp>
            <p:nvSpPr>
              <p:cNvPr id="95" name="Text Box 16"/>
              <p:cNvSpPr/>
              <p:nvPr/>
            </p:nvSpPr>
            <p:spPr>
              <a:xfrm>
                <a:off x="2288160" y="1636560"/>
                <a:ext cx="217656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 1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   1  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17"/>
              <p:cNvSpPr/>
              <p:nvPr/>
            </p:nvSpPr>
            <p:spPr>
              <a:xfrm>
                <a:off x="2288160" y="1893600"/>
                <a:ext cx="217692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3  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   0   1   0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Text Box 18"/>
              <p:cNvSpPr/>
              <p:nvPr/>
            </p:nvSpPr>
            <p:spPr>
              <a:xfrm>
                <a:off x="2123280" y="2150640"/>
                <a:ext cx="2341440" cy="43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2   </a:t>
                </a:r>
                <a:r>
                  <a:rPr b="0" lang="zh-CN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1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   0   0   0   1</a:t>
                </a: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9"/>
          <p:cNvGrpSpPr/>
          <p:nvPr/>
        </p:nvGrpSpPr>
        <p:grpSpPr>
          <a:xfrm>
            <a:off x="1187280" y="2644920"/>
            <a:ext cx="3505320" cy="950040"/>
            <a:chOff x="1187280" y="2644920"/>
            <a:chExt cx="3505320" cy="950040"/>
          </a:xfrm>
        </p:grpSpPr>
        <p:grpSp>
          <p:nvGrpSpPr>
            <p:cNvPr id="99" name="Group 20"/>
            <p:cNvGrpSpPr/>
            <p:nvPr/>
          </p:nvGrpSpPr>
          <p:grpSpPr>
            <a:xfrm>
              <a:off x="1873080" y="2644920"/>
              <a:ext cx="2819520" cy="950040"/>
              <a:chOff x="1873080" y="2644920"/>
              <a:chExt cx="2819520" cy="950040"/>
            </a:xfrm>
          </p:grpSpPr>
          <p:pic>
            <p:nvPicPr>
              <p:cNvPr id="100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3080" y="2644920"/>
                <a:ext cx="32688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4365360" y="2644920"/>
                <a:ext cx="327240" cy="89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Group 23"/>
              <p:cNvGrpSpPr/>
              <p:nvPr/>
            </p:nvGrpSpPr>
            <p:grpSpPr>
              <a:xfrm>
                <a:off x="2252880" y="2644920"/>
                <a:ext cx="2176920" cy="950040"/>
                <a:chOff x="2252880" y="2644920"/>
                <a:chExt cx="2176920" cy="950040"/>
              </a:xfrm>
            </p:grpSpPr>
            <p:sp>
              <p:nvSpPr>
                <p:cNvPr id="103" name="Text Box 24"/>
                <p:cNvSpPr/>
                <p:nvPr/>
              </p:nvSpPr>
              <p:spPr>
                <a:xfrm>
                  <a:off x="2252880" y="2644920"/>
                  <a:ext cx="2176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1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1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25"/>
                <p:cNvSpPr/>
                <p:nvPr/>
              </p:nvSpPr>
              <p:spPr>
                <a:xfrm>
                  <a:off x="2304000" y="2901960"/>
                  <a:ext cx="2122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Text Box 26"/>
                <p:cNvSpPr/>
                <p:nvPr/>
              </p:nvSpPr>
              <p:spPr>
                <a:xfrm>
                  <a:off x="2252880" y="3159000"/>
                  <a:ext cx="21769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7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" name="Line 27"/>
            <p:cNvSpPr/>
            <p:nvPr/>
          </p:nvSpPr>
          <p:spPr>
            <a:xfrm>
              <a:off x="1187280" y="3044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4572000" y="2644920"/>
            <a:ext cx="3755880" cy="950040"/>
            <a:chOff x="4572000" y="2644920"/>
            <a:chExt cx="3755880" cy="950040"/>
          </a:xfrm>
        </p:grpSpPr>
        <p:grpSp>
          <p:nvGrpSpPr>
            <p:cNvPr id="108" name="Group 29"/>
            <p:cNvGrpSpPr/>
            <p:nvPr/>
          </p:nvGrpSpPr>
          <p:grpSpPr>
            <a:xfrm>
              <a:off x="5181480" y="2644920"/>
              <a:ext cx="3146400" cy="950040"/>
              <a:chOff x="5181480" y="2644920"/>
              <a:chExt cx="3146400" cy="950040"/>
            </a:xfrm>
          </p:grpSpPr>
          <p:pic>
            <p:nvPicPr>
              <p:cNvPr id="109" name="Picture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1480" y="2644920"/>
                <a:ext cx="32688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Picture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2644920"/>
                <a:ext cx="326880" cy="89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" name="Group 32"/>
              <p:cNvGrpSpPr/>
              <p:nvPr/>
            </p:nvGrpSpPr>
            <p:grpSpPr>
              <a:xfrm>
                <a:off x="5562000" y="2644920"/>
                <a:ext cx="2530080" cy="950040"/>
                <a:chOff x="5562000" y="2644920"/>
                <a:chExt cx="2530080" cy="950040"/>
              </a:xfrm>
            </p:grpSpPr>
            <p:sp>
              <p:nvSpPr>
                <p:cNvPr id="112" name="Text Box 33"/>
                <p:cNvSpPr/>
                <p:nvPr/>
              </p:nvSpPr>
              <p:spPr>
                <a:xfrm>
                  <a:off x="5562000" y="2644920"/>
                  <a:ext cx="25059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1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6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34"/>
                <p:cNvSpPr/>
                <p:nvPr/>
              </p:nvSpPr>
              <p:spPr>
                <a:xfrm>
                  <a:off x="5640480" y="2901960"/>
                  <a:ext cx="23965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0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4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 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Text Box 35"/>
                <p:cNvSpPr/>
                <p:nvPr/>
              </p:nvSpPr>
              <p:spPr>
                <a:xfrm>
                  <a:off x="5585400" y="3159000"/>
                  <a:ext cx="250668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 0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7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 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" name="Line 36"/>
            <p:cNvSpPr/>
            <p:nvPr/>
          </p:nvSpPr>
          <p:spPr>
            <a:xfrm>
              <a:off x="4572000" y="31017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4716360" y="1708200"/>
            <a:ext cx="3505320" cy="950040"/>
            <a:chOff x="4716360" y="1708200"/>
            <a:chExt cx="3505320" cy="950040"/>
          </a:xfrm>
        </p:grpSpPr>
        <p:grpSp>
          <p:nvGrpSpPr>
            <p:cNvPr id="117" name="Group 38"/>
            <p:cNvGrpSpPr/>
            <p:nvPr/>
          </p:nvGrpSpPr>
          <p:grpSpPr>
            <a:xfrm>
              <a:off x="5402160" y="1708200"/>
              <a:ext cx="2819520" cy="950040"/>
              <a:chOff x="5402160" y="1708200"/>
              <a:chExt cx="2819520" cy="950040"/>
            </a:xfrm>
          </p:grpSpPr>
          <p:grpSp>
            <p:nvGrpSpPr>
              <p:cNvPr id="118" name="Group 39"/>
              <p:cNvGrpSpPr/>
              <p:nvPr/>
            </p:nvGrpSpPr>
            <p:grpSpPr>
              <a:xfrm>
                <a:off x="5668920" y="1708200"/>
                <a:ext cx="2451240" cy="950040"/>
                <a:chOff x="5668920" y="1708200"/>
                <a:chExt cx="2451240" cy="950040"/>
              </a:xfrm>
            </p:grpSpPr>
            <p:sp>
              <p:nvSpPr>
                <p:cNvPr id="119" name="Text Box 40"/>
                <p:cNvSpPr/>
                <p:nvPr/>
              </p:nvSpPr>
              <p:spPr>
                <a:xfrm>
                  <a:off x="5781960" y="1708200"/>
                  <a:ext cx="2176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1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1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41"/>
                <p:cNvSpPr/>
                <p:nvPr/>
              </p:nvSpPr>
              <p:spPr>
                <a:xfrm>
                  <a:off x="5668920" y="1965240"/>
                  <a:ext cx="24512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1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1 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Text Box 42"/>
                <p:cNvSpPr/>
                <p:nvPr/>
              </p:nvSpPr>
              <p:spPr>
                <a:xfrm>
                  <a:off x="5781960" y="2222280"/>
                  <a:ext cx="2176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   2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2" name="Picture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5402160" y="1708200"/>
                <a:ext cx="32688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7894440" y="1708200"/>
                <a:ext cx="327240" cy="89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4" name="Line 45"/>
            <p:cNvSpPr/>
            <p:nvPr/>
          </p:nvSpPr>
          <p:spPr>
            <a:xfrm>
              <a:off x="4716360" y="21650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6"/>
          <p:cNvGrpSpPr/>
          <p:nvPr/>
        </p:nvGrpSpPr>
        <p:grpSpPr>
          <a:xfrm>
            <a:off x="900000" y="3579840"/>
            <a:ext cx="3671280" cy="954720"/>
            <a:chOff x="900000" y="3579840"/>
            <a:chExt cx="3671280" cy="954720"/>
          </a:xfrm>
        </p:grpSpPr>
        <p:grpSp>
          <p:nvGrpSpPr>
            <p:cNvPr id="126" name="Group 47"/>
            <p:cNvGrpSpPr/>
            <p:nvPr/>
          </p:nvGrpSpPr>
          <p:grpSpPr>
            <a:xfrm>
              <a:off x="1716120" y="3579840"/>
              <a:ext cx="2855160" cy="954720"/>
              <a:chOff x="1716120" y="3579840"/>
              <a:chExt cx="2855160" cy="954720"/>
            </a:xfrm>
          </p:grpSpPr>
          <p:pic>
            <p:nvPicPr>
              <p:cNvPr id="127" name="Picture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1716120" y="3579840"/>
                <a:ext cx="34992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4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21360" y="3579840"/>
                <a:ext cx="349920" cy="89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9" name="Group 50"/>
              <p:cNvGrpSpPr/>
              <p:nvPr/>
            </p:nvGrpSpPr>
            <p:grpSpPr>
              <a:xfrm>
                <a:off x="2034000" y="3579840"/>
                <a:ext cx="2239560" cy="954720"/>
                <a:chOff x="2034000" y="3579840"/>
                <a:chExt cx="2239560" cy="954720"/>
              </a:xfrm>
            </p:grpSpPr>
            <p:sp>
              <p:nvSpPr>
                <p:cNvPr id="130" name="Text Box 51"/>
                <p:cNvSpPr/>
                <p:nvPr/>
              </p:nvSpPr>
              <p:spPr>
                <a:xfrm>
                  <a:off x="2073960" y="3579840"/>
                  <a:ext cx="21769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0 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Text Box 52"/>
                <p:cNvSpPr/>
                <p:nvPr/>
              </p:nvSpPr>
              <p:spPr>
                <a:xfrm>
                  <a:off x="2034000" y="3841560"/>
                  <a:ext cx="223956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 0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4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Text Box 53"/>
                <p:cNvSpPr/>
                <p:nvPr/>
              </p:nvSpPr>
              <p:spPr>
                <a:xfrm>
                  <a:off x="2065320" y="4098600"/>
                  <a:ext cx="21769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0   1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7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Line 54"/>
            <p:cNvSpPr/>
            <p:nvPr/>
          </p:nvSpPr>
          <p:spPr>
            <a:xfrm>
              <a:off x="900000" y="403668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55"/>
          <p:cNvGrpSpPr/>
          <p:nvPr/>
        </p:nvGrpSpPr>
        <p:grpSpPr>
          <a:xfrm>
            <a:off x="4645080" y="3652920"/>
            <a:ext cx="3239280" cy="954720"/>
            <a:chOff x="4645080" y="3652920"/>
            <a:chExt cx="3239280" cy="954720"/>
          </a:xfrm>
        </p:grpSpPr>
        <p:grpSp>
          <p:nvGrpSpPr>
            <p:cNvPr id="135" name="Group 56"/>
            <p:cNvGrpSpPr/>
            <p:nvPr/>
          </p:nvGrpSpPr>
          <p:grpSpPr>
            <a:xfrm>
              <a:off x="5365080" y="3652920"/>
              <a:ext cx="2519280" cy="954720"/>
              <a:chOff x="5365080" y="3652920"/>
              <a:chExt cx="2519280" cy="954720"/>
            </a:xfrm>
          </p:grpSpPr>
          <p:pic>
            <p:nvPicPr>
              <p:cNvPr id="136" name="Picture 57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65080" y="3652920"/>
                <a:ext cx="308520" cy="89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5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75840" y="3652920"/>
                <a:ext cx="308520" cy="89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Group 59"/>
              <p:cNvGrpSpPr/>
              <p:nvPr/>
            </p:nvGrpSpPr>
            <p:grpSpPr>
              <a:xfrm>
                <a:off x="5581080" y="3652920"/>
                <a:ext cx="2105640" cy="954720"/>
                <a:chOff x="5581080" y="3652920"/>
                <a:chExt cx="2105640" cy="954720"/>
              </a:xfrm>
            </p:grpSpPr>
            <p:sp>
              <p:nvSpPr>
                <p:cNvPr id="139" name="Text Box 60"/>
                <p:cNvSpPr/>
                <p:nvPr/>
              </p:nvSpPr>
              <p:spPr>
                <a:xfrm>
                  <a:off x="5634720" y="3652920"/>
                  <a:ext cx="201312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0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1  0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Text Box 61"/>
                <p:cNvSpPr/>
                <p:nvPr/>
              </p:nvSpPr>
              <p:spPr>
                <a:xfrm>
                  <a:off x="5581080" y="3914640"/>
                  <a:ext cx="21056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1   0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4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2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1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Text Box 62"/>
                <p:cNvSpPr/>
                <p:nvPr/>
              </p:nvSpPr>
              <p:spPr>
                <a:xfrm>
                  <a:off x="5627520" y="4171680"/>
                  <a:ext cx="2012040" cy="43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0  0   1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7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3</a:t>
                  </a:r>
                  <a:r>
                    <a:rPr b="0" lang="en-US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  </a:t>
                  </a:r>
                  <a:r>
                    <a:rPr b="0" lang="zh-CN" sz="2600" spc="-1" strike="noStrike">
                      <a:solidFill>
                        <a:srgbClr val="000000"/>
                      </a:solidFill>
                      <a:latin typeface="Times New Roman"/>
                      <a:ea typeface="华文中宋"/>
                    </a:rPr>
                    <a:t>1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2" name="Line 63"/>
            <p:cNvSpPr/>
            <p:nvPr/>
          </p:nvSpPr>
          <p:spPr>
            <a:xfrm>
              <a:off x="4645080" y="4109760"/>
              <a:ext cx="5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Line 64"/>
          <p:cNvSpPr/>
          <p:nvPr/>
        </p:nvSpPr>
        <p:spPr>
          <a:xfrm>
            <a:off x="6588000" y="3724200"/>
            <a:ext cx="0" cy="84132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5"/>
              <p:cNvSpPr txBox="1"/>
              <p:nvPr/>
            </p:nvSpPr>
            <p:spPr>
              <a:xfrm>
                <a:off x="2340000" y="339840"/>
                <a:ext cx="201600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6"/>
              <p:cNvSpPr txBox="1"/>
              <p:nvPr/>
            </p:nvSpPr>
            <p:spPr>
              <a:xfrm>
                <a:off x="5867280" y="339840"/>
                <a:ext cx="19526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1131480"/>
            <a:ext cx="2521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3060720" y="628560"/>
          <a:ext cx="4464000" cy="14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628560"/>
                    <a:ext cx="44640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4"/>
          <p:cNvGraphicFramePr/>
          <p:nvPr/>
        </p:nvGraphicFramePr>
        <p:xfrm>
          <a:off x="1979640" y="2212920"/>
          <a:ext cx="4067280" cy="19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212920"/>
                    <a:ext cx="406728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934560" y="555480"/>
            <a:ext cx="6490080" cy="905040"/>
            <a:chOff x="934560" y="555480"/>
            <a:chExt cx="6490080" cy="905040"/>
          </a:xfrm>
        </p:grpSpPr>
        <p:sp>
          <p:nvSpPr>
            <p:cNvPr id="152" name="Text Box 3"/>
            <p:cNvSpPr/>
            <p:nvPr/>
          </p:nvSpPr>
          <p:spPr>
            <a:xfrm>
              <a:off x="934560" y="775440"/>
              <a:ext cx="632232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</a:t>
              </a:r>
              <a:r>
                <a:rPr b="1" lang="zh-CN" sz="2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例</a:t>
              </a:r>
              <a:r>
                <a:rPr b="1" lang="zh-CN" sz="2600" spc="-1" strike="noStrike">
                  <a:solidFill>
                    <a:srgbClr val="cc0000"/>
                  </a:solidFill>
                  <a:latin typeface="Times New Roman"/>
                  <a:ea typeface="华文中宋"/>
                </a:rPr>
                <a:t>3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求解矩阵方程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X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A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其中                    </a:t>
              </a:r>
              <a:r>
                <a:rPr b="0" lang="zh-CN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</a:t>
              </a: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Picture 4" descr=""/>
            <p:cNvPicPr/>
            <p:nvPr/>
          </p:nvPicPr>
          <p:blipFill>
            <a:blip r:embed="rId1"/>
            <a:stretch/>
          </p:blipFill>
          <p:spPr>
            <a:xfrm>
              <a:off x="5797440" y="555480"/>
              <a:ext cx="1627200" cy="90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Text Box 5"/>
          <p:cNvSpPr/>
          <p:nvPr/>
        </p:nvSpPr>
        <p:spPr>
          <a:xfrm>
            <a:off x="1771920" y="1419120"/>
            <a:ext cx="3314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把所给方程变形为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E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65680" y="1419120"/>
            <a:ext cx="10461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1116000" y="1924200"/>
            <a:ext cx="3703680" cy="904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5783040" y="1419120"/>
            <a:ext cx="3970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因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9"/>
          <p:cNvGrpSpPr/>
          <p:nvPr/>
        </p:nvGrpSpPr>
        <p:grpSpPr>
          <a:xfrm>
            <a:off x="4861080" y="1851120"/>
            <a:ext cx="3352680" cy="904680"/>
            <a:chOff x="4861080" y="1851120"/>
            <a:chExt cx="3352680" cy="904680"/>
          </a:xfrm>
        </p:grpSpPr>
        <p:pic>
          <p:nvPicPr>
            <p:cNvPr id="159" name="Picture 10" descr=""/>
            <p:cNvPicPr/>
            <p:nvPr/>
          </p:nvPicPr>
          <p:blipFill>
            <a:blip r:embed="rId3"/>
            <a:srcRect l="2022" t="3720" r="72077" b="2012"/>
            <a:stretch/>
          </p:blipFill>
          <p:spPr>
            <a:xfrm>
              <a:off x="5319720" y="1851120"/>
              <a:ext cx="2894040" cy="904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Group 11"/>
            <p:cNvGrpSpPr/>
            <p:nvPr/>
          </p:nvGrpSpPr>
          <p:grpSpPr>
            <a:xfrm>
              <a:off x="4861080" y="1860480"/>
              <a:ext cx="154080" cy="685800"/>
              <a:chOff x="4861080" y="1860480"/>
              <a:chExt cx="154080" cy="685800"/>
            </a:xfrm>
          </p:grpSpPr>
          <p:sp>
            <p:nvSpPr>
              <p:cNvPr id="161" name="Text Box 12"/>
              <p:cNvSpPr/>
              <p:nvPr/>
            </p:nvSpPr>
            <p:spPr>
              <a:xfrm>
                <a:off x="4861080" y="1860480"/>
                <a:ext cx="144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13"/>
              <p:cNvSpPr/>
              <p:nvPr/>
            </p:nvSpPr>
            <p:spPr>
              <a:xfrm>
                <a:off x="5013360" y="1901880"/>
                <a:ext cx="1800" cy="32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Group 14"/>
          <p:cNvGrpSpPr/>
          <p:nvPr/>
        </p:nvGrpSpPr>
        <p:grpSpPr>
          <a:xfrm>
            <a:off x="1031400" y="2787480"/>
            <a:ext cx="2916720" cy="962280"/>
            <a:chOff x="1031400" y="2787480"/>
            <a:chExt cx="2916720" cy="962280"/>
          </a:xfrm>
        </p:grpSpPr>
        <p:pic>
          <p:nvPicPr>
            <p:cNvPr id="164" name="Picture 15" descr=""/>
            <p:cNvPicPr/>
            <p:nvPr/>
          </p:nvPicPr>
          <p:blipFill>
            <a:blip r:embed="rId4"/>
            <a:srcRect l="0" t="0" r="82964" b="0"/>
            <a:stretch/>
          </p:blipFill>
          <p:spPr>
            <a:xfrm>
              <a:off x="2043000" y="2787480"/>
              <a:ext cx="19051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6"/>
            <p:cNvSpPr/>
            <p:nvPr/>
          </p:nvSpPr>
          <p:spPr>
            <a:xfrm>
              <a:off x="1031400" y="3016440"/>
              <a:ext cx="39708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6" name="Picture 17" descr=""/>
          <p:cNvPicPr/>
          <p:nvPr/>
        </p:nvPicPr>
        <p:blipFill>
          <a:blip r:embed="rId5"/>
          <a:srcRect l="17043" t="0" r="64719" b="0"/>
          <a:stretch/>
        </p:blipFill>
        <p:spPr>
          <a:xfrm>
            <a:off x="3995640" y="2787480"/>
            <a:ext cx="2040120" cy="962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8"/>
          <p:cNvSpPr/>
          <p:nvPr/>
        </p:nvSpPr>
        <p:spPr>
          <a:xfrm>
            <a:off x="228600" y="3772080"/>
            <a:ext cx="86868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思考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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如何求解矩阵方程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XA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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?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其中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可逆</a:t>
            </a:r>
            <a:r>
              <a:rPr b="1" lang="zh-CN" sz="2800" spc="-1" strike="noStrike">
                <a:solidFill>
                  <a:srgbClr val="3333cc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9">
            <a:hlinkClick r:id="" action="ppaction://hlinkshowjump?jump=endshow"/>
          </p:cNvPr>
          <p:cNvSpPr/>
          <p:nvPr/>
        </p:nvSpPr>
        <p:spPr>
          <a:xfrm>
            <a:off x="6531120" y="4921200"/>
            <a:ext cx="130644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8104680" y="2066760"/>
            <a:ext cx="653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宋体"/>
              </a:rPr>
              <a:t>&gt;&gt;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4788000" y="23558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6:29:18Z</dcterms:created>
  <dc:creator>Administrator</dc:creator>
  <dc:description/>
  <dc:language>en-US</dc:language>
  <cp:lastModifiedBy>lisiyan</cp:lastModifiedBy>
  <dcterms:modified xsi:type="dcterms:W3CDTF">2017-06-06T14:46:44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