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内容占位符 5122" descr="logo"/>
          <p:cNvPicPr/>
          <p:nvPr/>
        </p:nvPicPr>
        <p:blipFill>
          <a:blip r:embed="rId3"/>
          <a:stretch/>
        </p:blipFill>
        <p:spPr>
          <a:xfrm>
            <a:off x="0" y="0"/>
            <a:ext cx="1836720" cy="522360"/>
          </a:xfrm>
          <a:prstGeom prst="rect">
            <a:avLst/>
          </a:prstGeom>
          <a:ln w="0">
            <a:noFill/>
          </a:ln>
        </p:spPr>
      </p:pic>
      <p:pic>
        <p:nvPicPr>
          <p:cNvPr id="1" name="矩形 6" descr=""/>
          <p:cNvPicPr/>
          <p:nvPr/>
        </p:nvPicPr>
        <p:blipFill>
          <a:blip r:embed="rId4"/>
          <a:stretch/>
        </p:blipFill>
        <p:spPr>
          <a:xfrm>
            <a:off x="4187880" y="4614840"/>
            <a:ext cx="499248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2560" y="62712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《线性代数》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             多媒体课件                                         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3411360" y="1600200"/>
          <a:ext cx="273708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1360" y="1600200"/>
                    <a:ext cx="273708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3"/>
          <p:cNvSpPr/>
          <p:nvPr/>
        </p:nvSpPr>
        <p:spPr>
          <a:xfrm>
            <a:off x="1017720" y="1012680"/>
            <a:ext cx="5257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有一种特殊的行阶梯形矩阵：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3" name="Object 2"/>
              <p:cNvSpPr txBox="1"/>
              <p:nvPr/>
            </p:nvSpPr>
            <p:spPr>
              <a:xfrm>
                <a:off x="2411280" y="1635120"/>
                <a:ext cx="29689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Text Box 3"/>
          <p:cNvSpPr/>
          <p:nvPr/>
        </p:nvSpPr>
        <p:spPr>
          <a:xfrm>
            <a:off x="395280" y="1563840"/>
            <a:ext cx="81025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       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例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行最简形矩阵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66560" y="3579840"/>
            <a:ext cx="8064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中宋"/>
              </a:rPr>
              <a:t>任何矩阵都可以经过有限次初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行变换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中宋"/>
              </a:rPr>
              <a:t>化为行阶梯形矩阵和行最简形矩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85720" y="771480"/>
            <a:ext cx="828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行最简形矩阵：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行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第一个非零元是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且这些非零元所在列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其余元素全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行阶梯形矩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755640" y="1492200"/>
            <a:ext cx="633564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定理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2.4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初等变换不改变矩阵的秩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68360" y="2085840"/>
            <a:ext cx="79200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根据这一定理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为求矩阵的秩</a:t>
            </a:r>
            <a:r>
              <a:rPr b="0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只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中宋"/>
              </a:rPr>
              <a:t>把矩阵用初等行变换变成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行阶梯形矩阵</a:t>
            </a:r>
            <a:r>
              <a:rPr b="1" lang="zh-CN" sz="2800" spc="-1" strike="noStrike">
                <a:solidFill>
                  <a:srgbClr val="000066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行阶梯形矩阵中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非零行的行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即是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该矩阵的秩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692360" y="844560"/>
            <a:ext cx="4752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、矩阵秩的求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573120"/>
            <a:ext cx="8229600" cy="31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求矩阵秩的两种常用方法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定义法：求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最高阶非零子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其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阶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初等变换法：即对矩阵进行初等行变换，使其化成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行阶梯形矩阵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个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行阶梯形矩阵中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非零行的行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于该矩阵的秩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1200240"/>
            <a:ext cx="814860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例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4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矩阵                                              的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3060720" y="628560"/>
                <a:ext cx="403848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3492360" y="2774880"/>
                <a:ext cx="244800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Text Box 5"/>
          <p:cNvSpPr/>
          <p:nvPr/>
        </p:nvSpPr>
        <p:spPr>
          <a:xfrm>
            <a:off x="396720" y="2284560"/>
            <a:ext cx="882036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解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（定义法）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有一个三阶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672920" y="3867120"/>
            <a:ext cx="49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并且可验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所有的四阶子式全为零，所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(A)=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Object 2"/>
              <p:cNvSpPr txBox="1"/>
              <p:nvPr/>
            </p:nvSpPr>
            <p:spPr>
              <a:xfrm>
                <a:off x="900000" y="1924200"/>
                <a:ext cx="691200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920" y="628560"/>
            <a:ext cx="3960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初等变换法）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32000" y="1977840"/>
            <a:ext cx="40384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(A)=3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71640" y="1330200"/>
            <a:ext cx="2016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因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2844720" y="1486080"/>
                <a:ext cx="27306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8442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定理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2.4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任意一个秩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              矩阵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等价于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个形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3076200"/>
            <a:ext cx="80755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称为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价的标准形矩阵（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上角是一个单位矩阵，其余元素全为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6012000" y="3219480"/>
                <a:ext cx="698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900000" y="3147840"/>
                <a:ext cx="7336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7"/>
              <p:cNvSpPr txBox="1"/>
              <p:nvPr/>
            </p:nvSpPr>
            <p:spPr>
              <a:xfrm>
                <a:off x="4716360" y="844560"/>
                <a:ext cx="9352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×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 Box 8"/>
          <p:cNvSpPr/>
          <p:nvPr/>
        </p:nvSpPr>
        <p:spPr>
          <a:xfrm>
            <a:off x="900000" y="24638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矩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9640" y="98748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推论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4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个同阶矩阵等价的充要条件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们的秩相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推论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4.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阶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可逆矩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秩等于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推论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4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矩阵的标准形是唯一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推论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.4.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,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可逆矩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PA,AQ,PA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(PAQ)=r(A)=r(PA)=r(AQ)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8360" y="3589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定理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2.4.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m×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矩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s×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矩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(AB)≦min{r(A),r(B)}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定理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2.4.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m×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矩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r(A+B)≦r(A)+r(B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27200"/>
            <a:ext cx="7772400" cy="180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第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节  矩阵的秩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       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  <a:ea typeface="宋体"/>
              </a:rPr>
              <a:t>1. </a:t>
            </a:r>
            <a:r>
              <a:rPr b="1" i="1" lang="en-US" sz="2800" spc="-1" strike="noStrike">
                <a:solidFill>
                  <a:srgbClr val="cc0000"/>
                </a:solidFill>
                <a:latin typeface="宋体"/>
                <a:ea typeface="宋体"/>
              </a:rPr>
              <a:t>k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阶子式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矩阵的秩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           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矩阵秩的求法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       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"/>
          <p:cNvGrpSpPr/>
          <p:nvPr/>
        </p:nvGrpSpPr>
        <p:grpSpPr>
          <a:xfrm>
            <a:off x="2124000" y="2787480"/>
            <a:ext cx="2133720" cy="1116360"/>
            <a:chOff x="2124000" y="2787480"/>
            <a:chExt cx="2133720" cy="1116360"/>
          </a:xfrm>
        </p:grpSpPr>
        <p:sp>
          <p:nvSpPr>
            <p:cNvPr id="41" name="Rectangle 3"/>
            <p:cNvSpPr/>
            <p:nvPr/>
          </p:nvSpPr>
          <p:spPr>
            <a:xfrm>
              <a:off x="2441520" y="2787480"/>
              <a:ext cx="380880" cy="11163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Rectangle 4"/>
            <p:cNvSpPr/>
            <p:nvPr/>
          </p:nvSpPr>
          <p:spPr>
            <a:xfrm>
              <a:off x="3381480" y="2787480"/>
              <a:ext cx="380880" cy="11163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2124000" y="2863440"/>
              <a:ext cx="2133720" cy="2286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2124000" y="3359160"/>
              <a:ext cx="2133720" cy="2282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Group 7"/>
          <p:cNvGrpSpPr/>
          <p:nvPr/>
        </p:nvGrpSpPr>
        <p:grpSpPr>
          <a:xfrm>
            <a:off x="1582560" y="2716200"/>
            <a:ext cx="3016800" cy="1217880"/>
            <a:chOff x="1582560" y="2716200"/>
            <a:chExt cx="3016800" cy="1217880"/>
          </a:xfrm>
        </p:grpSpPr>
        <p:grpSp>
          <p:nvGrpSpPr>
            <p:cNvPr id="46" name="Group 8"/>
            <p:cNvGrpSpPr/>
            <p:nvPr/>
          </p:nvGrpSpPr>
          <p:grpSpPr>
            <a:xfrm>
              <a:off x="2001960" y="2716200"/>
              <a:ext cx="2439360" cy="1217880"/>
              <a:chOff x="2001960" y="2716200"/>
              <a:chExt cx="2439360" cy="1217880"/>
            </a:xfrm>
          </p:grpSpPr>
          <p:pic>
            <p:nvPicPr>
              <p:cNvPr id="47" name="Picture 9" descr=""/>
              <p:cNvPicPr/>
              <p:nvPr/>
            </p:nvPicPr>
            <p:blipFill>
              <a:blip r:embed="rId1"/>
              <a:stretch/>
            </p:blipFill>
            <p:spPr>
              <a:xfrm>
                <a:off x="2001960" y="2754000"/>
                <a:ext cx="2439360" cy="11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Text Box 10"/>
              <p:cNvSpPr/>
              <p:nvPr/>
            </p:nvSpPr>
            <p:spPr>
              <a:xfrm>
                <a:off x="2280960" y="2716200"/>
                <a:ext cx="184644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   1 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2   1   4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Text Box 11"/>
              <p:cNvSpPr/>
              <p:nvPr/>
            </p:nvSpPr>
            <p:spPr>
              <a:xfrm>
                <a:off x="2325960" y="2963520"/>
                <a:ext cx="179172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2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 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   1   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Text Box 12"/>
              <p:cNvSpPr/>
              <p:nvPr/>
            </p:nvSpPr>
            <p:spPr>
              <a:xfrm>
                <a:off x="2325960" y="3210840"/>
                <a:ext cx="179172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2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3 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   2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Text Box 13"/>
              <p:cNvSpPr/>
              <p:nvPr/>
            </p:nvSpPr>
            <p:spPr>
              <a:xfrm>
                <a:off x="2290680" y="3458520"/>
                <a:ext cx="1846440" cy="4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3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6 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9   7   9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Text Box 14"/>
            <p:cNvSpPr/>
            <p:nvPr/>
          </p:nvSpPr>
          <p:spPr>
            <a:xfrm>
              <a:off x="1582560" y="3065760"/>
              <a:ext cx="30168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                      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Text Box 15"/>
          <p:cNvSpPr/>
          <p:nvPr/>
        </p:nvSpPr>
        <p:spPr>
          <a:xfrm>
            <a:off x="1116000" y="1114560"/>
            <a:ext cx="72738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定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在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矩阵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中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任取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k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行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k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列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位于这些行列交叉处的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k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个元素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按原来的次序组成的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k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阶行列式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称为矩阵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k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阶子式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476280" y="2625840"/>
            <a:ext cx="12445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例如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4834440" y="2932200"/>
            <a:ext cx="25088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是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个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二阶子式</a:t>
            </a:r>
            <a:r>
              <a:rPr b="1" lang="zh-CN" sz="26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8" descr=""/>
          <p:cNvPicPr/>
          <p:nvPr/>
        </p:nvPicPr>
        <p:blipFill>
          <a:blip r:embed="rId2"/>
          <a:srcRect l="0" t="20018" r="50063" b="20200"/>
          <a:stretch/>
        </p:blipFill>
        <p:spPr>
          <a:xfrm>
            <a:off x="468360" y="4011480"/>
            <a:ext cx="5904000" cy="5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Object 20"/>
          <p:cNvGraphicFramePr/>
          <p:nvPr/>
        </p:nvGraphicFramePr>
        <p:xfrm>
          <a:off x="5219640" y="2860560"/>
          <a:ext cx="128268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2860560"/>
                    <a:ext cx="128268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21"/>
          <p:cNvSpPr/>
          <p:nvPr/>
        </p:nvSpPr>
        <p:spPr>
          <a:xfrm>
            <a:off x="1390680" y="603360"/>
            <a:ext cx="29527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阶子式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68360" y="1060560"/>
            <a:ext cx="8362800" cy="15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定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矩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非零子式的最高阶数称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秩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记作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(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79280" y="2066760"/>
            <a:ext cx="83631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1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若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矩阵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r(A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min{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}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2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i="1" lang="zh-CN" sz="26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)=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(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39640" y="3003480"/>
            <a:ext cx="80647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(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3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)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对于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阶矩阵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|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时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称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满秩矩阵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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当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|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时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称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降秩矩阵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467520" y="474840"/>
            <a:ext cx="148176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矩阵的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260360" y="2571840"/>
            <a:ext cx="71899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但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中有一个二阶子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0" t="0" r="83705" b="0"/>
          <a:stretch/>
        </p:blipFill>
        <p:spPr>
          <a:xfrm>
            <a:off x="5148360" y="2517840"/>
            <a:ext cx="2160360" cy="760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49360" y="1168560"/>
            <a:ext cx="8126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   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例 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2.4.1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求矩阵                          的秩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6"/>
          <p:cNvGraphicFramePr/>
          <p:nvPr/>
        </p:nvGraphicFramePr>
        <p:xfrm>
          <a:off x="3203640" y="771480"/>
          <a:ext cx="2162160" cy="120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771480"/>
                    <a:ext cx="216216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7"/>
          <p:cNvSpPr/>
          <p:nvPr/>
        </p:nvSpPr>
        <p:spPr>
          <a:xfrm>
            <a:off x="334800" y="1870200"/>
            <a:ext cx="71899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    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解：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三阶子式只有一个，经计算知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|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|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=0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476360" y="3219480"/>
            <a:ext cx="251928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此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(A)=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72720" y="1012680"/>
            <a:ext cx="418788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例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2.4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矩阵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秩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3"/>
          <p:cNvGraphicFramePr/>
          <p:nvPr/>
        </p:nvGraphicFramePr>
        <p:xfrm>
          <a:off x="3997440" y="627120"/>
          <a:ext cx="4032000" cy="17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7440" y="627120"/>
                    <a:ext cx="4032000" cy="17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4861080" y="2932200"/>
                <a:ext cx="23922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Text Box 5"/>
          <p:cNvSpPr/>
          <p:nvPr/>
        </p:nvSpPr>
        <p:spPr>
          <a:xfrm>
            <a:off x="1131120" y="2355840"/>
            <a:ext cx="4775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解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在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中，由它的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行与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列构成的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一个三阶子式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2058120" y="3940200"/>
            <a:ext cx="45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所有四阶子式全为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r(A)=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6516720" y="2644920"/>
            <a:ext cx="2519280" cy="431640"/>
          </a:xfrm>
          <a:prstGeom prst="wedgeRoundRectCallout">
            <a:avLst>
              <a:gd name="adj1" fmla="val -45194"/>
              <a:gd name="adj2" fmla="val -145041"/>
              <a:gd name="adj3" fmla="val 16667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行阶梯形矩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000" y="845640"/>
            <a:ext cx="78483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  <a:ea typeface="宋体"/>
              </a:rPr>
              <a:t>一个矩阵若满足下面两个条件：</a:t>
            </a:r>
            <a:br>
              <a:rPr sz="2800"/>
            </a:br>
            <a:br>
              <a:rPr sz="24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684360" y="20685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零行位于矩阵的最下方（有零行的情况下）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84360" y="1492200"/>
            <a:ext cx="8135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每行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第一个非零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前面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零的个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逐行增加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629360" y="2716200"/>
            <a:ext cx="29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称该矩阵为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行阶梯形矩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Object 2"/>
              <p:cNvSpPr txBox="1"/>
              <p:nvPr/>
            </p:nvSpPr>
            <p:spPr>
              <a:xfrm>
                <a:off x="1258920" y="1060560"/>
                <a:ext cx="5616720" cy="22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m>
                      <m:mr>
                        <m:e/>
                        <m:e/>
                      </m:mr>
                    </m:m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4360" y="680760"/>
            <a:ext cx="73562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AutoShape 4"/>
          <p:cNvCxnSpPr>
            <a:stCxn id="83" idx="1"/>
            <a:endCxn id="83" idx="0"/>
          </p:cNvCxnSpPr>
          <p:nvPr/>
        </p:nvCxnSpPr>
        <p:spPr>
          <a:xfrm flipH="1" rot="10800000">
            <a:off x="683280" y="680400"/>
            <a:ext cx="3678840" cy="1135800"/>
          </a:xfrm>
          <a:prstGeom prst="bentConnector4">
            <a:avLst>
              <a:gd name="adj1" fmla="val -6204"/>
              <a:gd name="adj2" fmla="val 115091"/>
            </a:avLst>
          </a:prstGeom>
          <a:ln w="0">
            <a:noFill/>
          </a:ln>
        </p:spPr>
      </p:cxnSp>
      <p:cxnSp>
        <p:nvCxnSpPr>
          <p:cNvPr id="85" name="AutoShape 5"/>
          <p:cNvCxnSpPr>
            <a:stCxn id="83" idx="1"/>
            <a:endCxn id="83" idx="0"/>
          </p:cNvCxnSpPr>
          <p:nvPr/>
        </p:nvCxnSpPr>
        <p:spPr>
          <a:xfrm flipH="1" rot="10800000">
            <a:off x="683280" y="680400"/>
            <a:ext cx="3678840" cy="1135800"/>
          </a:xfrm>
          <a:prstGeom prst="bentConnector4">
            <a:avLst>
              <a:gd name="adj1" fmla="val -6204"/>
              <a:gd name="adj2" fmla="val 115091"/>
            </a:avLst>
          </a:prstGeom>
          <a:ln w="0">
            <a:noFill/>
          </a:ln>
        </p:spPr>
      </p:cxnSp>
      <p:cxnSp>
        <p:nvCxnSpPr>
          <p:cNvPr id="86" name="AutoShape 6"/>
          <p:cNvCxnSpPr>
            <a:stCxn id="83" idx="1"/>
            <a:endCxn id="83" idx="0"/>
          </p:cNvCxnSpPr>
          <p:nvPr/>
        </p:nvCxnSpPr>
        <p:spPr>
          <a:xfrm flipH="1" rot="10800000">
            <a:off x="683280" y="680400"/>
            <a:ext cx="3678840" cy="1135800"/>
          </a:xfrm>
          <a:prstGeom prst="bentConnector4">
            <a:avLst>
              <a:gd name="adj1" fmla="val -6204"/>
              <a:gd name="adj2" fmla="val 115091"/>
            </a:avLst>
          </a:prstGeom>
          <a:ln w="0">
            <a:noFill/>
          </a:ln>
        </p:spPr>
      </p:cxnSp>
      <p:cxnSp>
        <p:nvCxnSpPr>
          <p:cNvPr id="87" name="AutoShape 7"/>
          <p:cNvCxnSpPr>
            <a:stCxn id="83" idx="1"/>
            <a:endCxn id="83" idx="1"/>
          </p:cNvCxnSpPr>
          <p:nvPr/>
        </p:nvCxnSpPr>
        <p:spPr>
          <a:xfrm flipH="1" flipV="1" rot="10800000">
            <a:off x="684000" y="1815120"/>
            <a:ext cx="2160" cy="108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88" name="AutoShape 8"/>
          <p:cNvCxnSpPr>
            <a:stCxn id="83" idx="1"/>
            <a:endCxn id="83" idx="1"/>
          </p:cNvCxnSpPr>
          <p:nvPr/>
        </p:nvCxnSpPr>
        <p:spPr>
          <a:xfrm flipH="1" flipV="1" rot="10800000">
            <a:off x="684000" y="1815120"/>
            <a:ext cx="2160" cy="108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89" name="AutoShape 9"/>
          <p:cNvCxnSpPr>
            <a:stCxn id="83" idx="0"/>
            <a:endCxn id="83" idx="1"/>
          </p:cNvCxnSpPr>
          <p:nvPr/>
        </p:nvCxnSpPr>
        <p:spPr>
          <a:xfrm rot="5400000">
            <a:off x="1764000" y="-131040"/>
            <a:ext cx="1513440" cy="2759760"/>
          </a:xfrm>
          <a:prstGeom prst="bentConnector4">
            <a:avLst>
              <a:gd name="adj1" fmla="val -15108"/>
              <a:gd name="adj2" fmla="val 106210"/>
            </a:avLst>
          </a:prstGeom>
          <a:ln w="0">
            <a:noFill/>
          </a:ln>
        </p:spPr>
      </p:cxnSp>
      <p:sp>
        <p:nvSpPr>
          <p:cNvPr id="90" name="Line 10"/>
          <p:cNvSpPr/>
          <p:nvPr/>
        </p:nvSpPr>
        <p:spPr>
          <a:xfrm>
            <a:off x="1403280" y="17082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1908000" y="1708200"/>
            <a:ext cx="180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1908000" y="21398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2411280" y="2139840"/>
            <a:ext cx="1800" cy="4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2411280" y="2679840"/>
            <a:ext cx="505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2916360" y="26258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5651640" y="246384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356000" y="15462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4859280" y="1492200"/>
            <a:ext cx="1800" cy="4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4859280" y="19782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0"/>
          <p:cNvSpPr/>
          <p:nvPr/>
        </p:nvSpPr>
        <p:spPr>
          <a:xfrm>
            <a:off x="5651640" y="1978200"/>
            <a:ext cx="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1"/>
          <p:cNvSpPr/>
          <p:nvPr/>
        </p:nvSpPr>
        <p:spPr>
          <a:xfrm>
            <a:off x="2279880" y="359712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为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行阶梯形矩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2" name="AutoShape 2"/>
          <p:cNvCxnSpPr/>
          <p:nvPr/>
        </p:nvCxnSpPr>
        <p:spPr>
          <a:xfrm flipH="1" rot="10800000">
            <a:off x="683280" y="-113400"/>
            <a:ext cx="3678840" cy="1119960"/>
          </a:xfrm>
          <a:prstGeom prst="bentConnector4">
            <a:avLst>
              <a:gd name="adj1" fmla="val -6204"/>
              <a:gd name="adj2" fmla="val 115080"/>
            </a:avLst>
          </a:prstGeom>
          <a:ln w="0">
            <a:noFill/>
          </a:ln>
        </p:spPr>
      </p:cxnSp>
      <p:cxnSp>
        <p:nvCxnSpPr>
          <p:cNvPr id="103" name="AutoShape 3"/>
          <p:cNvCxnSpPr/>
          <p:nvPr/>
        </p:nvCxnSpPr>
        <p:spPr>
          <a:xfrm flipH="1" rot="10800000">
            <a:off x="683280" y="-113400"/>
            <a:ext cx="3678840" cy="1119960"/>
          </a:xfrm>
          <a:prstGeom prst="bentConnector4">
            <a:avLst>
              <a:gd name="adj1" fmla="val -6204"/>
              <a:gd name="adj2" fmla="val 115080"/>
            </a:avLst>
          </a:prstGeom>
          <a:ln w="0">
            <a:noFill/>
          </a:ln>
        </p:spPr>
      </p:cxnSp>
      <p:cxnSp>
        <p:nvCxnSpPr>
          <p:cNvPr id="104" name="AutoShape 4"/>
          <p:cNvCxnSpPr/>
          <p:nvPr/>
        </p:nvCxnSpPr>
        <p:spPr>
          <a:xfrm flipH="1" rot="10800000">
            <a:off x="683280" y="-113400"/>
            <a:ext cx="3678840" cy="1119960"/>
          </a:xfrm>
          <a:prstGeom prst="bentConnector4">
            <a:avLst>
              <a:gd name="adj1" fmla="val -6204"/>
              <a:gd name="adj2" fmla="val 115080"/>
            </a:avLst>
          </a:prstGeom>
          <a:ln w="0">
            <a:noFill/>
          </a:ln>
        </p:spPr>
      </p:cxnSp>
      <p:cxnSp>
        <p:nvCxnSpPr>
          <p:cNvPr id="105" name="AutoShape 5"/>
          <p:cNvCxnSpPr/>
          <p:nvPr/>
        </p:nvCxnSpPr>
        <p:spPr>
          <a:xfrm flipH="1" flipV="1" rot="10800000">
            <a:off x="684000" y="1005480"/>
            <a:ext cx="2160" cy="108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106" name="AutoShape 6"/>
          <p:cNvCxnSpPr/>
          <p:nvPr/>
        </p:nvCxnSpPr>
        <p:spPr>
          <a:xfrm flipH="1" flipV="1" rot="10800000">
            <a:off x="684000" y="1005480"/>
            <a:ext cx="2160" cy="108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107" name="AutoShape 7"/>
          <p:cNvCxnSpPr/>
          <p:nvPr/>
        </p:nvCxnSpPr>
        <p:spPr>
          <a:xfrm rot="5400000">
            <a:off x="1774440" y="-927360"/>
            <a:ext cx="1496160" cy="2756520"/>
          </a:xfrm>
          <a:prstGeom prst="bentConnector4">
            <a:avLst>
              <a:gd name="adj1" fmla="val -15090"/>
              <a:gd name="adj2" fmla="val 106217"/>
            </a:avLst>
          </a:prstGeom>
          <a:ln w="0">
            <a:noFill/>
          </a:ln>
        </p:spPr>
      </p:cxnSp>
      <p:graphicFrame>
        <p:nvGraphicFramePr>
          <p:cNvPr id="108" name="Object 8"/>
          <p:cNvGraphicFramePr/>
          <p:nvPr/>
        </p:nvGraphicFramePr>
        <p:xfrm>
          <a:off x="1751040" y="1197000"/>
          <a:ext cx="2733480" cy="21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1040" y="1197000"/>
                    <a:ext cx="273348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04:41:04Z</dcterms:created>
  <dc:creator>Administrator</dc:creator>
  <dc:description/>
  <dc:language>en-US</dc:language>
  <cp:lastModifiedBy>lisiyan</cp:lastModifiedBy>
  <dcterms:modified xsi:type="dcterms:W3CDTF">2017-06-06T14:54:14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