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矩形 2" descr=""/>
          <p:cNvPicPr/>
          <p:nvPr/>
        </p:nvPicPr>
        <p:blipFill>
          <a:blip r:embed="rId3"/>
          <a:stretch/>
        </p:blipFill>
        <p:spPr>
          <a:xfrm>
            <a:off x="5456160" y="4730760"/>
            <a:ext cx="3743280" cy="420840"/>
          </a:xfrm>
          <a:prstGeom prst="rect">
            <a:avLst/>
          </a:prstGeom>
          <a:ln w="0">
            <a:noFill/>
          </a:ln>
        </p:spPr>
      </p:pic>
      <p:pic>
        <p:nvPicPr>
          <p:cNvPr id="1" name="内容占位符 5122" descr="logo"/>
          <p:cNvPicPr/>
          <p:nvPr/>
        </p:nvPicPr>
        <p:blipFill>
          <a:blip r:embed="rId4"/>
          <a:stretch/>
        </p:blipFill>
        <p:spPr>
          <a:xfrm>
            <a:off x="0" y="0"/>
            <a:ext cx="1560600" cy="3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560" y="1112400"/>
            <a:ext cx="7772400" cy="135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线性代数》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 多媒体课件                                      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91137"/>
          <p:cNvSpPr/>
          <p:nvPr/>
        </p:nvSpPr>
        <p:spPr>
          <a:xfrm>
            <a:off x="824760" y="339840"/>
            <a:ext cx="3231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91138"/>
          <p:cNvSpPr/>
          <p:nvPr/>
        </p:nvSpPr>
        <p:spPr>
          <a:xfrm>
            <a:off x="611280" y="1311120"/>
            <a:ext cx="7200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长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或范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91139"/>
          <p:cNvSpPr/>
          <p:nvPr/>
        </p:nvSpPr>
        <p:spPr>
          <a:xfrm>
            <a:off x="638280" y="1708200"/>
            <a:ext cx="782136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向量的长度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实数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非负性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齐次性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三角不等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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91140"/>
          <p:cNvSpPr/>
          <p:nvPr/>
        </p:nvSpPr>
        <p:spPr>
          <a:xfrm>
            <a:off x="2415960" y="792000"/>
            <a:ext cx="95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对象 91141"/>
          <p:cNvGraphicFramePr/>
          <p:nvPr/>
        </p:nvGraphicFramePr>
        <p:xfrm>
          <a:off x="3286080" y="824040"/>
          <a:ext cx="998640" cy="39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对象 911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824040"/>
                    <a:ext cx="99864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对象 91142"/>
          <p:cNvGraphicFramePr/>
          <p:nvPr/>
        </p:nvGraphicFramePr>
        <p:xfrm>
          <a:off x="4284720" y="717480"/>
          <a:ext cx="309564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对象 911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717480"/>
                    <a:ext cx="30956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矩形 91143"/>
          <p:cNvSpPr/>
          <p:nvPr/>
        </p:nvSpPr>
        <p:spPr>
          <a:xfrm>
            <a:off x="1327320" y="4714920"/>
            <a:ext cx="3374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长度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向量称为单位向量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95233"/>
          <p:cNvSpPr/>
          <p:nvPr/>
        </p:nvSpPr>
        <p:spPr>
          <a:xfrm>
            <a:off x="441360" y="484200"/>
            <a:ext cx="856944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称向量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正交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显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若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任何向量都正交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95234"/>
          <p:cNvSpPr/>
          <p:nvPr/>
        </p:nvSpPr>
        <p:spPr>
          <a:xfrm>
            <a:off x="324000" y="1546200"/>
            <a:ext cx="8686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若非零向量组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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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r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一组两两正交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向量组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则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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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正交向量组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95235"/>
          <p:cNvSpPr/>
          <p:nvPr/>
        </p:nvSpPr>
        <p:spPr>
          <a:xfrm>
            <a:off x="371520" y="2746440"/>
            <a:ext cx="62881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理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正交的向量组必定线性无关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70660"/>
          <p:cNvSpPr/>
          <p:nvPr/>
        </p:nvSpPr>
        <p:spPr>
          <a:xfrm>
            <a:off x="441360" y="484200"/>
            <a:ext cx="856944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称向量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正交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显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若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任何向量都正交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70662"/>
          <p:cNvSpPr/>
          <p:nvPr/>
        </p:nvSpPr>
        <p:spPr>
          <a:xfrm>
            <a:off x="382680" y="1687680"/>
            <a:ext cx="8686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若非零向量组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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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r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一组两两正交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向量组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则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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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正交向量组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70663"/>
          <p:cNvSpPr/>
          <p:nvPr/>
        </p:nvSpPr>
        <p:spPr>
          <a:xfrm>
            <a:off x="371520" y="2746440"/>
            <a:ext cx="62881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理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正交的向量组必定线性无关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70664"/>
          <p:cNvSpPr/>
          <p:nvPr/>
        </p:nvSpPr>
        <p:spPr>
          <a:xfrm>
            <a:off x="1449000" y="3211200"/>
            <a:ext cx="63540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定理的逆命题一般不成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即线性无关的向量组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矩形 70666"/>
          <p:cNvSpPr/>
          <p:nvPr/>
        </p:nvSpPr>
        <p:spPr>
          <a:xfrm>
            <a:off x="1111320" y="3884760"/>
            <a:ext cx="2876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未必是正交向量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例如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矩形 70668"/>
          <p:cNvSpPr/>
          <p:nvPr/>
        </p:nvSpPr>
        <p:spPr>
          <a:xfrm>
            <a:off x="2504160" y="4346640"/>
            <a:ext cx="41198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=(1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1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2)</a:t>
            </a:r>
            <a:r>
              <a:rPr b="1" lang="en-US" sz="2800" spc="-1" strike="noStrike" baseline="30000">
                <a:solidFill>
                  <a:srgbClr val="660066"/>
                </a:solidFill>
                <a:latin typeface="Times New Roman"/>
                <a:ea typeface="华文中宋"/>
              </a:rPr>
              <a:t>T 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=(1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1)</a:t>
            </a:r>
            <a:r>
              <a:rPr b="1" lang="en-US" sz="2800" spc="-1" strike="noStrike" baseline="30000">
                <a:solidFill>
                  <a:srgbClr val="660066"/>
                </a:solidFill>
                <a:latin typeface="Times New Roman"/>
                <a:ea typeface="华文中宋"/>
              </a:rPr>
              <a:t>T  </a:t>
            </a:r>
            <a:r>
              <a:rPr b="1" i="1" lang="en-US" sz="2800" spc="-1" strike="noStrike" baseline="30000">
                <a:solidFill>
                  <a:srgbClr val="660066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00353"/>
          <p:cNvSpPr/>
          <p:nvPr/>
        </p:nvSpPr>
        <p:spPr>
          <a:xfrm>
            <a:off x="1394280" y="1065240"/>
            <a:ext cx="58284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线性无关的向量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矩形 100354"/>
          <p:cNvSpPr/>
          <p:nvPr/>
        </p:nvSpPr>
        <p:spPr>
          <a:xfrm>
            <a:off x="910080" y="1386000"/>
            <a:ext cx="129024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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对象 100355"/>
          <p:cNvGraphicFramePr/>
          <p:nvPr/>
        </p:nvGraphicFramePr>
        <p:xfrm>
          <a:off x="971640" y="1706400"/>
          <a:ext cx="280656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对象 1003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06400"/>
                    <a:ext cx="28065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对象 100356"/>
          <p:cNvGraphicFramePr/>
          <p:nvPr/>
        </p:nvGraphicFramePr>
        <p:xfrm>
          <a:off x="900000" y="2409840"/>
          <a:ext cx="468000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对象 1003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409840"/>
                    <a:ext cx="4680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矩形 100357"/>
          <p:cNvSpPr/>
          <p:nvPr/>
        </p:nvSpPr>
        <p:spPr>
          <a:xfrm>
            <a:off x="761400" y="3058920"/>
            <a:ext cx="97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 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对象 100358"/>
          <p:cNvGraphicFramePr/>
          <p:nvPr/>
        </p:nvGraphicFramePr>
        <p:xfrm>
          <a:off x="0" y="3489480"/>
          <a:ext cx="914400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对象 1003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489480"/>
                    <a:ext cx="91440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矩形 100359"/>
          <p:cNvSpPr/>
          <p:nvPr/>
        </p:nvSpPr>
        <p:spPr>
          <a:xfrm>
            <a:off x="2626200" y="616680"/>
            <a:ext cx="385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施密特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Schimidt)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正交化过程</a:t>
            </a:r>
            <a:r>
              <a:rPr b="1" lang="en-US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99329"/>
          <p:cNvSpPr/>
          <p:nvPr/>
        </p:nvSpPr>
        <p:spPr>
          <a:xfrm>
            <a:off x="1394280" y="1096920"/>
            <a:ext cx="58284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线性无关的向量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99330"/>
          <p:cNvSpPr/>
          <p:nvPr/>
        </p:nvSpPr>
        <p:spPr>
          <a:xfrm>
            <a:off x="951120" y="1417680"/>
            <a:ext cx="129024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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对象 99331"/>
          <p:cNvGraphicFramePr/>
          <p:nvPr/>
        </p:nvGraphicFramePr>
        <p:xfrm>
          <a:off x="900000" y="1736640"/>
          <a:ext cx="280692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对象 993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36640"/>
                    <a:ext cx="28069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对象 99332"/>
          <p:cNvGraphicFramePr/>
          <p:nvPr/>
        </p:nvGraphicFramePr>
        <p:xfrm>
          <a:off x="900000" y="2495520"/>
          <a:ext cx="468000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对象 993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495520"/>
                    <a:ext cx="4680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矩形 99333"/>
          <p:cNvSpPr/>
          <p:nvPr/>
        </p:nvSpPr>
        <p:spPr>
          <a:xfrm>
            <a:off x="761400" y="3058920"/>
            <a:ext cx="97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 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对象 99334"/>
          <p:cNvGraphicFramePr/>
          <p:nvPr/>
        </p:nvGraphicFramePr>
        <p:xfrm>
          <a:off x="0" y="3489480"/>
          <a:ext cx="914400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对象 993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489480"/>
                    <a:ext cx="91440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矩形 99335"/>
          <p:cNvSpPr/>
          <p:nvPr/>
        </p:nvSpPr>
        <p:spPr>
          <a:xfrm>
            <a:off x="1619640" y="722880"/>
            <a:ext cx="385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施密特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Schimidt)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正交化过程</a:t>
            </a:r>
            <a:r>
              <a:rPr b="1" lang="en-US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矩形 99336"/>
          <p:cNvSpPr/>
          <p:nvPr/>
        </p:nvSpPr>
        <p:spPr>
          <a:xfrm>
            <a:off x="1675800" y="4424040"/>
            <a:ext cx="60426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容易验证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r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两两正交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等价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72707"/>
          <p:cNvSpPr/>
          <p:nvPr/>
        </p:nvSpPr>
        <p:spPr>
          <a:xfrm>
            <a:off x="987120" y="868680"/>
            <a:ext cx="452772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再把</a:t>
            </a:r>
            <a:r>
              <a:rPr b="1" lang="en-US" sz="2600" spc="-1" strike="noStrike">
                <a:solidFill>
                  <a:srgbClr val="660066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 baseline="-30000">
                <a:solidFill>
                  <a:srgbClr val="660066"/>
                </a:solidFill>
                <a:latin typeface="Symbol"/>
                <a:ea typeface="Symbol"/>
              </a:rPr>
              <a:t></a:t>
            </a:r>
            <a:r>
              <a:rPr b="1" lang="en-US" sz="2600" spc="-1" strike="noStrike">
                <a:solidFill>
                  <a:srgbClr val="660066"/>
                </a:solidFill>
                <a:latin typeface="Symbol"/>
                <a:ea typeface="Symbol"/>
              </a:rPr>
              <a:t></a:t>
            </a:r>
            <a:r>
              <a:rPr b="1" lang="en-US" sz="2600" spc="-1" strike="noStrike" baseline="-30000">
                <a:solidFill>
                  <a:srgbClr val="660066"/>
                </a:solidFill>
                <a:latin typeface="Symbol"/>
                <a:ea typeface="Symbol"/>
              </a:rPr>
              <a:t></a:t>
            </a:r>
            <a:r>
              <a:rPr b="1" lang="en-US" sz="2600" spc="-1" strike="noStrike">
                <a:solidFill>
                  <a:srgbClr val="660066"/>
                </a:solidFill>
                <a:latin typeface="Symbol"/>
                <a:ea typeface="Symbol"/>
              </a:rPr>
              <a:t></a:t>
            </a:r>
            <a:r>
              <a:rPr b="1" i="1" lang="en-US" sz="2600" spc="-1" strike="noStrike" baseline="-30000">
                <a:solidFill>
                  <a:srgbClr val="660066"/>
                </a:solidFill>
                <a:latin typeface="Times New Roman"/>
                <a:ea typeface="华文中宋"/>
              </a:rPr>
              <a:t>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单位化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 72709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对象 72708"/>
          <p:cNvGraphicFramePr/>
          <p:nvPr/>
        </p:nvGraphicFramePr>
        <p:xfrm>
          <a:off x="3203640" y="1274760"/>
          <a:ext cx="136836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对象 7270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274760"/>
                    <a:ext cx="13683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矩形 72711"/>
          <p:cNvSpPr/>
          <p:nvPr/>
        </p:nvSpPr>
        <p:spPr>
          <a:xfrm>
            <a:off x="0" y="24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对象 72710"/>
          <p:cNvGraphicFramePr/>
          <p:nvPr/>
        </p:nvGraphicFramePr>
        <p:xfrm>
          <a:off x="5076720" y="1546200"/>
          <a:ext cx="216072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对象 727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546200"/>
                    <a:ext cx="21607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矩形 72713"/>
          <p:cNvSpPr/>
          <p:nvPr/>
        </p:nvSpPr>
        <p:spPr>
          <a:xfrm>
            <a:off x="1155960" y="1503360"/>
            <a:ext cx="61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令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72717"/>
          <p:cNvSpPr/>
          <p:nvPr/>
        </p:nvSpPr>
        <p:spPr>
          <a:xfrm>
            <a:off x="2071800" y="2247840"/>
            <a:ext cx="4633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则向量组                   为正交单位向量组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对象 72718"/>
          <p:cNvGraphicFramePr/>
          <p:nvPr/>
        </p:nvGraphicFramePr>
        <p:xfrm>
          <a:off x="2443320" y="2247840"/>
          <a:ext cx="205740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对象 727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43320" y="2247840"/>
                    <a:ext cx="20574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74755"/>
          <p:cNvSpPr/>
          <p:nvPr/>
        </p:nvSpPr>
        <p:spPr>
          <a:xfrm>
            <a:off x="1206720" y="1488960"/>
            <a:ext cx="15933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令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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74753"/>
          <p:cNvSpPr/>
          <p:nvPr/>
        </p:nvSpPr>
        <p:spPr>
          <a:xfrm>
            <a:off x="379440" y="268200"/>
            <a:ext cx="86868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buClr>
                <a:srgbClr val="cc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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把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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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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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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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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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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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0000ff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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化为正交单位向量组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74754"/>
          <p:cNvSpPr/>
          <p:nvPr/>
        </p:nvSpPr>
        <p:spPr>
          <a:xfrm>
            <a:off x="594000" y="1488960"/>
            <a:ext cx="486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解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文本框 74758"/>
          <p:cNvSpPr/>
          <p:nvPr/>
        </p:nvSpPr>
        <p:spPr>
          <a:xfrm>
            <a:off x="762120" y="3543480"/>
            <a:ext cx="14000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再单位化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74759"/>
          <p:cNvSpPr/>
          <p:nvPr/>
        </p:nvSpPr>
        <p:spPr>
          <a:xfrm>
            <a:off x="4903560" y="4516560"/>
            <a:ext cx="2686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故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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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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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即为所求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矩形 74770"/>
          <p:cNvSpPr/>
          <p:nvPr/>
        </p:nvSpPr>
        <p:spPr>
          <a:xfrm>
            <a:off x="0" y="22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对象 74769"/>
          <p:cNvGraphicFramePr/>
          <p:nvPr/>
        </p:nvGraphicFramePr>
        <p:xfrm>
          <a:off x="2771640" y="1319040"/>
          <a:ext cx="29527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对象 747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319040"/>
                    <a:ext cx="29527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矩形 74772"/>
          <p:cNvSpPr/>
          <p:nvPr/>
        </p:nvSpPr>
        <p:spPr>
          <a:xfrm>
            <a:off x="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对象 74771"/>
          <p:cNvGraphicFramePr/>
          <p:nvPr/>
        </p:nvGraphicFramePr>
        <p:xfrm>
          <a:off x="5724360" y="1055520"/>
          <a:ext cx="3024360" cy="12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对象 747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055520"/>
                    <a:ext cx="3024360" cy="12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矩形 74776"/>
          <p:cNvSpPr/>
          <p:nvPr/>
        </p:nvSpPr>
        <p:spPr>
          <a:xfrm>
            <a:off x="0" y="240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对象 74775"/>
          <p:cNvGraphicFramePr/>
          <p:nvPr/>
        </p:nvGraphicFramePr>
        <p:xfrm>
          <a:off x="303120" y="2397240"/>
          <a:ext cx="489600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对象 7477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3120" y="2397240"/>
                    <a:ext cx="4896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矩形 74778"/>
          <p:cNvSpPr/>
          <p:nvPr/>
        </p:nvSpPr>
        <p:spPr>
          <a:xfrm>
            <a:off x="0" y="24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对象 74777"/>
          <p:cNvGraphicFramePr/>
          <p:nvPr/>
        </p:nvGraphicFramePr>
        <p:xfrm>
          <a:off x="5094360" y="2178000"/>
          <a:ext cx="132408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对象 747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94360" y="2178000"/>
                    <a:ext cx="132408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对象 74782"/>
          <p:cNvGraphicFramePr/>
          <p:nvPr/>
        </p:nvGraphicFramePr>
        <p:xfrm>
          <a:off x="2489040" y="3440160"/>
          <a:ext cx="1440000" cy="80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对象 7478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9040" y="3440160"/>
                    <a:ext cx="14400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矩形 74784"/>
          <p:cNvSpPr/>
          <p:nvPr/>
        </p:nvSpPr>
        <p:spPr>
          <a:xfrm>
            <a:off x="0" y="230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对象 74783"/>
          <p:cNvGraphicFramePr/>
          <p:nvPr/>
        </p:nvGraphicFramePr>
        <p:xfrm>
          <a:off x="3929040" y="3219480"/>
          <a:ext cx="1434960" cy="12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对象 7478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29040" y="3219480"/>
                    <a:ext cx="14349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对象 74785"/>
          <p:cNvGraphicFramePr/>
          <p:nvPr/>
        </p:nvGraphicFramePr>
        <p:xfrm>
          <a:off x="5511960" y="3387600"/>
          <a:ext cx="1469880" cy="80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对象 7478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11960" y="3387600"/>
                    <a:ext cx="14698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对象 74786"/>
          <p:cNvGraphicFramePr/>
          <p:nvPr/>
        </p:nvGraphicFramePr>
        <p:xfrm>
          <a:off x="6907320" y="3165480"/>
          <a:ext cx="1552320" cy="12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3" name="对象 7478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07320" y="3165480"/>
                    <a:ext cx="155232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对象 74787"/>
          <p:cNvGraphicFramePr/>
          <p:nvPr/>
        </p:nvGraphicFramePr>
        <p:xfrm>
          <a:off x="379440" y="4122720"/>
          <a:ext cx="1471680" cy="80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5" name="对象 7478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9440" y="4122720"/>
                    <a:ext cx="14716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对象 74788"/>
          <p:cNvGraphicFramePr/>
          <p:nvPr/>
        </p:nvGraphicFramePr>
        <p:xfrm>
          <a:off x="1785960" y="3922560"/>
          <a:ext cx="1417680" cy="1133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7" name="对象 7478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85960" y="3922560"/>
                    <a:ext cx="14176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75777"/>
          <p:cNvSpPr/>
          <p:nvPr/>
        </p:nvSpPr>
        <p:spPr>
          <a:xfrm>
            <a:off x="206280" y="339840"/>
            <a:ext cx="8686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已知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1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一组非零向量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3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使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两两正交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75778"/>
          <p:cNvSpPr/>
          <p:nvPr/>
        </p:nvSpPr>
        <p:spPr>
          <a:xfrm>
            <a:off x="406440" y="1492200"/>
            <a:ext cx="8686800" cy="27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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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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应满足方程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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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=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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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它的基础解系为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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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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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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把基础解系正交化即得所求亦即取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75779"/>
          <p:cNvSpPr/>
          <p:nvPr/>
        </p:nvSpPr>
        <p:spPr>
          <a:xfrm>
            <a:off x="880200" y="1760400"/>
            <a:ext cx="3999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图片 75782" descr=""/>
          <p:cNvPicPr/>
          <p:nvPr/>
        </p:nvPicPr>
        <p:blipFill>
          <a:blip r:embed="rId1"/>
          <a:srcRect l="23777" t="0" r="47024" b="0"/>
          <a:stretch/>
        </p:blipFill>
        <p:spPr>
          <a:xfrm>
            <a:off x="5329080" y="3827520"/>
            <a:ext cx="35640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对象 75784"/>
          <p:cNvGraphicFramePr/>
          <p:nvPr/>
        </p:nvGraphicFramePr>
        <p:xfrm>
          <a:off x="811080" y="4205160"/>
          <a:ext cx="117000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对象 7578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1080" y="4205160"/>
                    <a:ext cx="11700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对象 75786"/>
          <p:cNvGraphicFramePr/>
          <p:nvPr/>
        </p:nvGraphicFramePr>
        <p:xfrm>
          <a:off x="2411280" y="3989520"/>
          <a:ext cx="2828880" cy="79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对象 7578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3989520"/>
                    <a:ext cx="282888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76803"/>
          <p:cNvSpPr/>
          <p:nvPr/>
        </p:nvSpPr>
        <p:spPr>
          <a:xfrm>
            <a:off x="1684080" y="485640"/>
            <a:ext cx="6694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阶方阵满足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那么称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矩形 76805"/>
          <p:cNvSpPr/>
          <p:nvPr/>
        </p:nvSpPr>
        <p:spPr>
          <a:xfrm>
            <a:off x="1293120" y="1020600"/>
            <a:ext cx="3004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正交矩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简称正交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矩形 76806"/>
          <p:cNvSpPr/>
          <p:nvPr/>
        </p:nvSpPr>
        <p:spPr>
          <a:xfrm>
            <a:off x="1607400" y="1796760"/>
            <a:ext cx="483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例如，矩阵                         是正交矩阵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矩形 76808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对象 76807"/>
          <p:cNvGraphicFramePr/>
          <p:nvPr/>
        </p:nvGraphicFramePr>
        <p:xfrm>
          <a:off x="2620800" y="1620720"/>
          <a:ext cx="2737080" cy="7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对象 768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0" y="1620720"/>
                    <a:ext cx="273708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文本框 76810"/>
          <p:cNvSpPr/>
          <p:nvPr/>
        </p:nvSpPr>
        <p:spPr>
          <a:xfrm>
            <a:off x="1137960" y="2355840"/>
            <a:ext cx="7256880" cy="17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正交矩阵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正交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也是正交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且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都是正交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也正交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06497"/>
          <p:cNvSpPr/>
          <p:nvPr/>
        </p:nvSpPr>
        <p:spPr>
          <a:xfrm>
            <a:off x="1516680" y="339840"/>
            <a:ext cx="252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相似矩阵的概念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文本框 106498"/>
          <p:cNvSpPr/>
          <p:nvPr/>
        </p:nvSpPr>
        <p:spPr>
          <a:xfrm>
            <a:off x="611280" y="704880"/>
            <a:ext cx="8229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义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都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矩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若有可逆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相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记作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进行运算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对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进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相似变换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可逆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变成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相似变换矩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矩形 106499"/>
          <p:cNvSpPr/>
          <p:nvPr/>
        </p:nvSpPr>
        <p:spPr>
          <a:xfrm>
            <a:off x="840240" y="3940920"/>
            <a:ext cx="733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如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106500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对象 106501"/>
          <p:cNvGraphicFramePr/>
          <p:nvPr/>
        </p:nvGraphicFramePr>
        <p:xfrm>
          <a:off x="1619280" y="3763800"/>
          <a:ext cx="208764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对象 1065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763800"/>
                    <a:ext cx="208764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矩形 106502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对象 106503"/>
          <p:cNvGraphicFramePr/>
          <p:nvPr/>
        </p:nvGraphicFramePr>
        <p:xfrm>
          <a:off x="4140360" y="3786120"/>
          <a:ext cx="187164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对象 10650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786120"/>
                    <a:ext cx="18716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矩形 106504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对象 106505"/>
          <p:cNvGraphicFramePr/>
          <p:nvPr/>
        </p:nvGraphicFramePr>
        <p:xfrm>
          <a:off x="6443640" y="3724200"/>
          <a:ext cx="1800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对象 10650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3724200"/>
                    <a:ext cx="1800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对象 106507"/>
          <p:cNvGraphicFramePr/>
          <p:nvPr/>
        </p:nvGraphicFramePr>
        <p:xfrm>
          <a:off x="3851280" y="2139840"/>
          <a:ext cx="979560" cy="2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对象 10650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2139840"/>
                    <a:ext cx="9795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88920" y="411120"/>
            <a:ext cx="6113160" cy="434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第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解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相似矩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矩形 34828"/>
          <p:cNvSpPr/>
          <p:nvPr/>
        </p:nvSpPr>
        <p:spPr>
          <a:xfrm>
            <a:off x="1915200" y="1092240"/>
            <a:ext cx="5839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在线性代数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似矩阵是指存在相似关系的矩阵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矩形 34830"/>
          <p:cNvSpPr/>
          <p:nvPr/>
        </p:nvSpPr>
        <p:spPr>
          <a:xfrm>
            <a:off x="3658680" y="1547640"/>
            <a:ext cx="185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似关系是两个矩阵之间的一种等价关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似矩阵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34832"/>
          <p:cNvSpPr/>
          <p:nvPr/>
        </p:nvSpPr>
        <p:spPr>
          <a:xfrm>
            <a:off x="1937880" y="2033640"/>
            <a:ext cx="5529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留了矩阵的许多性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因此许多对矩阵性质的研究可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34834"/>
          <p:cNvSpPr/>
          <p:nvPr/>
        </p:nvSpPr>
        <p:spPr>
          <a:xfrm>
            <a:off x="1549080" y="2521080"/>
            <a:ext cx="399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通过研究更简单的相似矩阵而得到解决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34835"/>
          <p:cNvSpPr/>
          <p:nvPr/>
        </p:nvSpPr>
        <p:spPr>
          <a:xfrm>
            <a:off x="3480120" y="3079800"/>
            <a:ext cx="204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.</a:t>
            </a:r>
            <a:r>
              <a:rPr b="1" lang="en-US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向量的内积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34836"/>
          <p:cNvSpPr/>
          <p:nvPr/>
        </p:nvSpPr>
        <p:spPr>
          <a:xfrm>
            <a:off x="3632760" y="3613320"/>
            <a:ext cx="252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相似矩阵的概念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矩形 34837"/>
          <p:cNvSpPr/>
          <p:nvPr/>
        </p:nvSpPr>
        <p:spPr>
          <a:xfrm>
            <a:off x="3646080" y="4152960"/>
            <a:ext cx="263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. 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相似矩阵的性质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07521"/>
          <p:cNvSpPr/>
          <p:nvPr/>
        </p:nvSpPr>
        <p:spPr>
          <a:xfrm>
            <a:off x="1534320" y="339840"/>
            <a:ext cx="252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相似矩阵的概念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107522"/>
          <p:cNvSpPr/>
          <p:nvPr/>
        </p:nvSpPr>
        <p:spPr>
          <a:xfrm>
            <a:off x="611280" y="704880"/>
            <a:ext cx="8229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义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都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矩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若有可逆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相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记作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进行运算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对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进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相似变换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可逆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变成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相似变换矩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矩形 107523"/>
          <p:cNvSpPr/>
          <p:nvPr/>
        </p:nvSpPr>
        <p:spPr>
          <a:xfrm>
            <a:off x="840240" y="3796560"/>
            <a:ext cx="733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如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矩形 107524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对象 107525"/>
          <p:cNvGraphicFramePr/>
          <p:nvPr/>
        </p:nvGraphicFramePr>
        <p:xfrm>
          <a:off x="1619280" y="3621240"/>
          <a:ext cx="208764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对象 1075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621240"/>
                    <a:ext cx="20876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矩形 107526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对象 107527"/>
          <p:cNvGraphicFramePr/>
          <p:nvPr/>
        </p:nvGraphicFramePr>
        <p:xfrm>
          <a:off x="4140360" y="3641760"/>
          <a:ext cx="187164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对象 1075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641760"/>
                    <a:ext cx="1871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矩形 107528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对象 107529"/>
          <p:cNvGraphicFramePr/>
          <p:nvPr/>
        </p:nvGraphicFramePr>
        <p:xfrm>
          <a:off x="6443640" y="3579840"/>
          <a:ext cx="180036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对象 1075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3579840"/>
                    <a:ext cx="180036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矩形 107530"/>
          <p:cNvSpPr/>
          <p:nvPr/>
        </p:nvSpPr>
        <p:spPr>
          <a:xfrm>
            <a:off x="1075680" y="4552920"/>
            <a:ext cx="345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~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相似变换矩阵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对象 107531"/>
          <p:cNvGraphicFramePr/>
          <p:nvPr/>
        </p:nvGraphicFramePr>
        <p:xfrm>
          <a:off x="3780000" y="2111400"/>
          <a:ext cx="979200" cy="27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对象 1075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2111400"/>
                    <a:ext cx="9792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78851"/>
          <p:cNvSpPr/>
          <p:nvPr/>
        </p:nvSpPr>
        <p:spPr>
          <a:xfrm>
            <a:off x="2495520" y="402480"/>
            <a:ext cx="48927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似”是矩阵之间的一种关系，它具有下述性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反身性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: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称性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若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~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传递性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若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,  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矩形 78852"/>
          <p:cNvSpPr/>
          <p:nvPr/>
        </p:nvSpPr>
        <p:spPr>
          <a:xfrm>
            <a:off x="1775160" y="2933640"/>
            <a:ext cx="3879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此可见，矩阵相似关系是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等价关系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111617"/>
          <p:cNvSpPr/>
          <p:nvPr/>
        </p:nvSpPr>
        <p:spPr>
          <a:xfrm>
            <a:off x="1304280" y="55692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似矩阵具有以下性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矩形 111618"/>
          <p:cNvSpPr/>
          <p:nvPr/>
        </p:nvSpPr>
        <p:spPr>
          <a:xfrm>
            <a:off x="2225520" y="1133280"/>
            <a:ext cx="529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似矩阵的转置矩阵也相似；相似矩阵的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矩形 111619"/>
          <p:cNvSpPr/>
          <p:nvPr/>
        </p:nvSpPr>
        <p:spPr>
          <a:xfrm>
            <a:off x="1781640" y="1593720"/>
            <a:ext cx="338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也相似；相似矩阵的多项式也相似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矩形 111620"/>
          <p:cNvSpPr/>
          <p:nvPr/>
        </p:nvSpPr>
        <p:spPr>
          <a:xfrm>
            <a:off x="1702800" y="2214360"/>
            <a:ext cx="38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似矩阵的秩和行列式都相同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矩形 111621"/>
          <p:cNvSpPr/>
          <p:nvPr/>
        </p:nvSpPr>
        <p:spPr>
          <a:xfrm>
            <a:off x="719280" y="2817000"/>
            <a:ext cx="8751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相似矩阵有相同的可逆性，且矩阵可逆时其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矩形 111622"/>
          <p:cNvSpPr/>
          <p:nvPr/>
        </p:nvSpPr>
        <p:spPr>
          <a:xfrm>
            <a:off x="969120" y="3363840"/>
            <a:ext cx="1204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逆也相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矩形 111623"/>
          <p:cNvSpPr/>
          <p:nvPr/>
        </p:nvSpPr>
        <p:spPr>
          <a:xfrm>
            <a:off x="1952280" y="3773520"/>
            <a:ext cx="5415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相似矩阵有相同的特征多项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从而特征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矩形 111624"/>
          <p:cNvSpPr/>
          <p:nvPr/>
        </p:nvSpPr>
        <p:spPr>
          <a:xfrm>
            <a:off x="833760" y="4195800"/>
            <a:ext cx="1485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相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12641"/>
          <p:cNvSpPr/>
          <p:nvPr/>
        </p:nvSpPr>
        <p:spPr>
          <a:xfrm>
            <a:off x="1858320" y="7966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似矩阵具有以下性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矩形 112642"/>
          <p:cNvSpPr/>
          <p:nvPr/>
        </p:nvSpPr>
        <p:spPr>
          <a:xfrm>
            <a:off x="2225520" y="1313640"/>
            <a:ext cx="529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似矩阵的转置矩阵也相似；相似矩阵的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矩形 112643"/>
          <p:cNvSpPr/>
          <p:nvPr/>
        </p:nvSpPr>
        <p:spPr>
          <a:xfrm>
            <a:off x="1781640" y="1762200"/>
            <a:ext cx="338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也相似；相似矩阵的多项式也相似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矩形 112644"/>
          <p:cNvSpPr/>
          <p:nvPr/>
        </p:nvSpPr>
        <p:spPr>
          <a:xfrm>
            <a:off x="1702800" y="2194560"/>
            <a:ext cx="38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相似矩阵的秩和行列式都相同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矩形 112645"/>
          <p:cNvSpPr/>
          <p:nvPr/>
        </p:nvSpPr>
        <p:spPr>
          <a:xfrm>
            <a:off x="716040" y="2954160"/>
            <a:ext cx="875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相似矩阵有相同的可逆性，且矩阵可逆时其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112646"/>
          <p:cNvSpPr/>
          <p:nvPr/>
        </p:nvSpPr>
        <p:spPr>
          <a:xfrm>
            <a:off x="919800" y="3494160"/>
            <a:ext cx="1204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逆也相似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矩形 112647"/>
          <p:cNvSpPr/>
          <p:nvPr/>
        </p:nvSpPr>
        <p:spPr>
          <a:xfrm>
            <a:off x="2025000" y="3976560"/>
            <a:ext cx="56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性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相似矩阵有相同的特征多项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从而特征值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矩形 112648"/>
          <p:cNvSpPr/>
          <p:nvPr/>
        </p:nvSpPr>
        <p:spPr>
          <a:xfrm>
            <a:off x="3403800" y="4516200"/>
            <a:ext cx="2204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        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但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特征多项式相同的的矩阵不一定相似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16737"/>
          <p:cNvSpPr/>
          <p:nvPr/>
        </p:nvSpPr>
        <p:spPr>
          <a:xfrm>
            <a:off x="395280" y="285840"/>
            <a:ext cx="8686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推论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对角矩阵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diag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相似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则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特征值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文本框 116738"/>
          <p:cNvSpPr/>
          <p:nvPr/>
        </p:nvSpPr>
        <p:spPr>
          <a:xfrm>
            <a:off x="395280" y="1643040"/>
            <a:ext cx="820908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相似矩阵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B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B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多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特别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或有可逆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使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P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对角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P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其中                     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diag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diag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2945"/>
          <p:cNvSpPr/>
          <p:nvPr/>
        </p:nvSpPr>
        <p:spPr>
          <a:xfrm>
            <a:off x="1678320" y="268200"/>
            <a:ext cx="204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.</a:t>
            </a:r>
            <a:r>
              <a:rPr b="1" lang="en-US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向量的内积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82946"/>
          <p:cNvSpPr/>
          <p:nvPr/>
        </p:nvSpPr>
        <p:spPr>
          <a:xfrm>
            <a:off x="2486160" y="771480"/>
            <a:ext cx="501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在解析几何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已经定义了向量的数量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向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82947"/>
          <p:cNvSpPr/>
          <p:nvPr/>
        </p:nvSpPr>
        <p:spPr>
          <a:xfrm>
            <a:off x="4529880" y="1204920"/>
            <a:ext cx="163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长度、夹角等度量性质都可以用向量的数量积来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82948"/>
          <p:cNvSpPr/>
          <p:nvPr/>
        </p:nvSpPr>
        <p:spPr>
          <a:xfrm>
            <a:off x="1769400" y="1636560"/>
            <a:ext cx="59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以把这个定义推广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维向量上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此时我们称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82949"/>
          <p:cNvSpPr/>
          <p:nvPr/>
        </p:nvSpPr>
        <p:spPr>
          <a:xfrm>
            <a:off x="1332000" y="2552760"/>
            <a:ext cx="74167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设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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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82950"/>
          <p:cNvSpPr/>
          <p:nvPr/>
        </p:nvSpPr>
        <p:spPr>
          <a:xfrm>
            <a:off x="881280" y="2068560"/>
            <a:ext cx="1559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为向量的内积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82951"/>
          <p:cNvSpPr/>
          <p:nvPr/>
        </p:nvSpPr>
        <p:spPr>
          <a:xfrm>
            <a:off x="1341360" y="3719520"/>
            <a:ext cx="23400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向量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内积定义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82952"/>
          <p:cNvSpPr/>
          <p:nvPr/>
        </p:nvSpPr>
        <p:spPr>
          <a:xfrm>
            <a:off x="2050920" y="4300560"/>
            <a:ext cx="619128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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) = 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-30000">
                <a:solidFill>
                  <a:srgbClr val="660066"/>
                </a:solidFill>
                <a:latin typeface="Times New Roman"/>
                <a:ea typeface="华文中宋"/>
              </a:rPr>
              <a:t>1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 baseline="-30000">
                <a:solidFill>
                  <a:srgbClr val="660066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-30000">
                <a:solidFill>
                  <a:srgbClr val="660066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 baseline="-30000">
                <a:solidFill>
                  <a:srgbClr val="660066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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a</a:t>
            </a:r>
            <a:r>
              <a:rPr b="1" i="1" lang="en-US" sz="2800" spc="-1" strike="noStrike" baseline="-30000">
                <a:solidFill>
                  <a:srgbClr val="660066"/>
                </a:solidFill>
                <a:latin typeface="Times New Roman"/>
                <a:ea typeface="华文中宋"/>
              </a:rPr>
              <a:t>n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b</a:t>
            </a:r>
            <a:r>
              <a:rPr b="1" i="1" lang="en-US" sz="2800" spc="-1" strike="noStrike" baseline="-30000">
                <a:solidFill>
                  <a:srgbClr val="660066"/>
                </a:solidFill>
                <a:latin typeface="Times New Roman"/>
                <a:ea typeface="华文中宋"/>
              </a:rPr>
              <a:t>n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  <a:ea typeface="华文中宋"/>
              </a:rPr>
              <a:t>T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68612"/>
          <p:cNvSpPr/>
          <p:nvPr/>
        </p:nvSpPr>
        <p:spPr>
          <a:xfrm>
            <a:off x="826920" y="627120"/>
            <a:ext cx="756144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内积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实数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1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2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3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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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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4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87041"/>
          <p:cNvSpPr/>
          <p:nvPr/>
        </p:nvSpPr>
        <p:spPr>
          <a:xfrm>
            <a:off x="826920" y="627120"/>
            <a:ext cx="756144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内积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实数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1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2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3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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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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4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5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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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88065"/>
          <p:cNvSpPr/>
          <p:nvPr/>
        </p:nvSpPr>
        <p:spPr>
          <a:xfrm>
            <a:off x="565200" y="809640"/>
            <a:ext cx="3231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88066"/>
          <p:cNvSpPr/>
          <p:nvPr/>
        </p:nvSpPr>
        <p:spPr>
          <a:xfrm>
            <a:off x="682560" y="1628640"/>
            <a:ext cx="72010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长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或范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矩形 88068"/>
          <p:cNvSpPr/>
          <p:nvPr/>
        </p:nvSpPr>
        <p:spPr>
          <a:xfrm>
            <a:off x="2315880" y="1195560"/>
            <a:ext cx="95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对象 88069"/>
          <p:cNvGraphicFramePr/>
          <p:nvPr/>
        </p:nvGraphicFramePr>
        <p:xfrm>
          <a:off x="3368520" y="1195560"/>
          <a:ext cx="998640" cy="39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对象 880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8520" y="1195560"/>
                    <a:ext cx="99864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对象 88070"/>
          <p:cNvGraphicFramePr/>
          <p:nvPr/>
        </p:nvGraphicFramePr>
        <p:xfrm>
          <a:off x="4367160" y="1108080"/>
          <a:ext cx="309564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对象 8807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7160" y="1108080"/>
                    <a:ext cx="30956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89089"/>
          <p:cNvSpPr/>
          <p:nvPr/>
        </p:nvSpPr>
        <p:spPr>
          <a:xfrm>
            <a:off x="579600" y="685800"/>
            <a:ext cx="3231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89090"/>
          <p:cNvSpPr/>
          <p:nvPr/>
        </p:nvSpPr>
        <p:spPr>
          <a:xfrm>
            <a:off x="638280" y="1539720"/>
            <a:ext cx="7200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长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或范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89091"/>
          <p:cNvSpPr/>
          <p:nvPr/>
        </p:nvSpPr>
        <p:spPr>
          <a:xfrm>
            <a:off x="638280" y="1924200"/>
            <a:ext cx="78213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向量的长度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实数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非负性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89092"/>
          <p:cNvSpPr/>
          <p:nvPr/>
        </p:nvSpPr>
        <p:spPr>
          <a:xfrm>
            <a:off x="2333520" y="1157400"/>
            <a:ext cx="95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对象 89093"/>
          <p:cNvGraphicFramePr/>
          <p:nvPr/>
        </p:nvGraphicFramePr>
        <p:xfrm>
          <a:off x="3286080" y="1157400"/>
          <a:ext cx="99864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对象 890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1157400"/>
                    <a:ext cx="998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对象 89094"/>
          <p:cNvGraphicFramePr/>
          <p:nvPr/>
        </p:nvGraphicFramePr>
        <p:xfrm>
          <a:off x="4284720" y="1069920"/>
          <a:ext cx="309564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对象 8909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069920"/>
                    <a:ext cx="30956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69637"/>
          <p:cNvSpPr/>
          <p:nvPr/>
        </p:nvSpPr>
        <p:spPr>
          <a:xfrm>
            <a:off x="464400" y="411120"/>
            <a:ext cx="3231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69639"/>
          <p:cNvSpPr/>
          <p:nvPr/>
        </p:nvSpPr>
        <p:spPr>
          <a:xfrm>
            <a:off x="611280" y="1384200"/>
            <a:ext cx="7200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长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或范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69640"/>
          <p:cNvSpPr/>
          <p:nvPr/>
        </p:nvSpPr>
        <p:spPr>
          <a:xfrm>
            <a:off x="638280" y="1924200"/>
            <a:ext cx="782136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向量的长度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实数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非负性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齐次性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69686"/>
          <p:cNvSpPr/>
          <p:nvPr/>
        </p:nvSpPr>
        <p:spPr>
          <a:xfrm>
            <a:off x="2415960" y="865080"/>
            <a:ext cx="95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对象 69688"/>
          <p:cNvGraphicFramePr/>
          <p:nvPr/>
        </p:nvGraphicFramePr>
        <p:xfrm>
          <a:off x="3286080" y="895320"/>
          <a:ext cx="99864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对象 696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895320"/>
                    <a:ext cx="998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对象 69687"/>
          <p:cNvGraphicFramePr/>
          <p:nvPr/>
        </p:nvGraphicFramePr>
        <p:xfrm>
          <a:off x="4284720" y="789120"/>
          <a:ext cx="309564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对象 696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789120"/>
                    <a:ext cx="30956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90113"/>
          <p:cNvSpPr/>
          <p:nvPr/>
        </p:nvSpPr>
        <p:spPr>
          <a:xfrm>
            <a:off x="752400" y="411120"/>
            <a:ext cx="3231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90114"/>
          <p:cNvSpPr/>
          <p:nvPr/>
        </p:nvSpPr>
        <p:spPr>
          <a:xfrm>
            <a:off x="611280" y="1384200"/>
            <a:ext cx="7200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长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或范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90115"/>
          <p:cNvSpPr/>
          <p:nvPr/>
        </p:nvSpPr>
        <p:spPr>
          <a:xfrm>
            <a:off x="638280" y="1924200"/>
            <a:ext cx="782136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向量的长度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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维向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实数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非负性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齐次性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三角不等式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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90116"/>
          <p:cNvSpPr/>
          <p:nvPr/>
        </p:nvSpPr>
        <p:spPr>
          <a:xfrm>
            <a:off x="2415960" y="865080"/>
            <a:ext cx="95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|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对象 90117"/>
          <p:cNvGraphicFramePr/>
          <p:nvPr/>
        </p:nvGraphicFramePr>
        <p:xfrm>
          <a:off x="3286080" y="895320"/>
          <a:ext cx="99864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对象 90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895320"/>
                    <a:ext cx="998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对象 90118"/>
          <p:cNvGraphicFramePr/>
          <p:nvPr/>
        </p:nvGraphicFramePr>
        <p:xfrm>
          <a:off x="4284720" y="789120"/>
          <a:ext cx="309564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对象 901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789120"/>
                    <a:ext cx="30956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6:29:18Z</dcterms:created>
  <dc:creator/>
  <dc:description/>
  <cp:keywords/>
  <dc:language>en-US</dc:language>
  <cp:lastModifiedBy>lisiyan</cp:lastModifiedBy>
  <dcterms:modified xsi:type="dcterms:W3CDTF">2017-06-06T14:27:43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