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1.wmf" ContentType="image/x-wmf"/>
  <Override PartName="/ppt/media/image3.png" ContentType="image/png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5145088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内容占位符 5122" descr="logo"/>
          <p:cNvPicPr/>
          <p:nvPr/>
        </p:nvPicPr>
        <p:blipFill>
          <a:blip r:embed="rId3"/>
          <a:stretch/>
        </p:blipFill>
        <p:spPr>
          <a:xfrm>
            <a:off x="0" y="0"/>
            <a:ext cx="1392120" cy="303120"/>
          </a:xfrm>
          <a:prstGeom prst="rect">
            <a:avLst/>
          </a:prstGeom>
          <a:ln w="0">
            <a:noFill/>
          </a:ln>
        </p:spPr>
      </p:pic>
      <p:pic>
        <p:nvPicPr>
          <p:cNvPr id="1" name="矩形 3" descr=""/>
          <p:cNvPicPr/>
          <p:nvPr/>
        </p:nvPicPr>
        <p:blipFill>
          <a:blip r:embed="rId4"/>
          <a:stretch/>
        </p:blipFill>
        <p:spPr>
          <a:xfrm>
            <a:off x="5456160" y="4730760"/>
            <a:ext cx="374328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1112400"/>
            <a:ext cx="7772400" cy="135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《线性代数》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             多媒体课件                                         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87043"/>
          <p:cNvSpPr/>
          <p:nvPr/>
        </p:nvSpPr>
        <p:spPr>
          <a:xfrm>
            <a:off x="1868400" y="709560"/>
            <a:ext cx="5474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显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有三个线性无关的特征向量：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3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矩形 87045"/>
          <p:cNvSpPr/>
          <p:nvPr/>
        </p:nvSpPr>
        <p:spPr>
          <a:xfrm>
            <a:off x="1100880" y="1109520"/>
            <a:ext cx="2038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所以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可对角化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矩形 87047"/>
          <p:cNvSpPr/>
          <p:nvPr/>
        </p:nvSpPr>
        <p:spPr>
          <a:xfrm>
            <a:off x="1671840" y="1504800"/>
            <a:ext cx="52477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以特征向量：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3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列得可逆矩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即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内容占位符 87048"/>
          <p:cNvGraphicFramePr/>
          <p:nvPr/>
        </p:nvGraphicFramePr>
        <p:xfrm>
          <a:off x="2070000" y="1947960"/>
          <a:ext cx="547236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内容占位符 87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0000" y="1947960"/>
                    <a:ext cx="547236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内容占位符 87050"/>
          <p:cNvGraphicFramePr/>
          <p:nvPr/>
        </p:nvGraphicFramePr>
        <p:xfrm>
          <a:off x="144360" y="3281400"/>
          <a:ext cx="8820360" cy="123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内容占位符 870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3281400"/>
                    <a:ext cx="88203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矩形 87054"/>
          <p:cNvSpPr/>
          <p:nvPr/>
        </p:nvSpPr>
        <p:spPr>
          <a:xfrm>
            <a:off x="754920" y="2951280"/>
            <a:ext cx="520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且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90116"/>
          <p:cNvSpPr/>
          <p:nvPr/>
        </p:nvSpPr>
        <p:spPr>
          <a:xfrm>
            <a:off x="999720" y="771480"/>
            <a:ext cx="6161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由于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i="1" lang="zh-CN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－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P =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则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i="1" lang="zh-CN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－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100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 =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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100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故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内容占位符 90117"/>
          <p:cNvGraphicFramePr/>
          <p:nvPr/>
        </p:nvGraphicFramePr>
        <p:xfrm>
          <a:off x="3541680" y="1166760"/>
          <a:ext cx="244800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内容占位符 901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1680" y="1166760"/>
                    <a:ext cx="244800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内容占位符 90119"/>
          <p:cNvGraphicFramePr/>
          <p:nvPr/>
        </p:nvGraphicFramePr>
        <p:xfrm>
          <a:off x="2413080" y="1600200"/>
          <a:ext cx="5904000" cy="130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内容占位符 901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3080" y="1600200"/>
                    <a:ext cx="59040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内容占位符 90122"/>
          <p:cNvGraphicFramePr/>
          <p:nvPr/>
        </p:nvGraphicFramePr>
        <p:xfrm>
          <a:off x="2484360" y="3112920"/>
          <a:ext cx="4032360" cy="13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内容占位符 901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3112920"/>
                    <a:ext cx="403236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101377"/>
          <p:cNvSpPr/>
          <p:nvPr/>
        </p:nvSpPr>
        <p:spPr>
          <a:xfrm>
            <a:off x="384120" y="-20520"/>
            <a:ext cx="837576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方阵对角化的步骤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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求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全部互不相等的特征值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s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它们的重数依次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s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2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判断是否可对角化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若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对每个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重特征值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求方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基础解系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得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个线性无关的特征向量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3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以这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个线性无关的特征向量为列构成可逆矩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便有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P=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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其中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中对角元的排列次序应与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中列向量的排列次序相对应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95235"/>
          <p:cNvSpPr/>
          <p:nvPr/>
        </p:nvSpPr>
        <p:spPr>
          <a:xfrm>
            <a:off x="2451600" y="137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矩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对象 95236"/>
              <p:cNvSpPr txBox="1"/>
              <p:nvPr/>
            </p:nvSpPr>
            <p:spPr>
              <a:xfrm>
                <a:off x="3780000" y="844560"/>
                <a:ext cx="216036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6" name="文本框 95237"/>
          <p:cNvSpPr/>
          <p:nvPr/>
        </p:nvSpPr>
        <p:spPr>
          <a:xfrm>
            <a:off x="539640" y="23446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能否对角化？若能将其对角化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矩形 95238"/>
          <p:cNvSpPr/>
          <p:nvPr/>
        </p:nvSpPr>
        <p:spPr>
          <a:xfrm>
            <a:off x="1835280" y="250920"/>
            <a:ext cx="5545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课堂练习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文本框 95239"/>
          <p:cNvSpPr/>
          <p:nvPr/>
        </p:nvSpPr>
        <p:spPr>
          <a:xfrm>
            <a:off x="759240" y="3075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答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内容占位符 95240"/>
          <p:cNvGraphicFramePr/>
          <p:nvPr/>
        </p:nvGraphicFramePr>
        <p:xfrm>
          <a:off x="1692360" y="3182760"/>
          <a:ext cx="2303280" cy="12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内容占位符 952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182760"/>
                    <a:ext cx="2303280" cy="12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内容占位符 95242"/>
          <p:cNvGraphicFramePr/>
          <p:nvPr/>
        </p:nvGraphicFramePr>
        <p:xfrm>
          <a:off x="4500720" y="3112920"/>
          <a:ext cx="3095640" cy="13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内容占位符 952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3112920"/>
                    <a:ext cx="309564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94211"/>
          <p:cNvSpPr/>
          <p:nvPr/>
        </p:nvSpPr>
        <p:spPr>
          <a:xfrm>
            <a:off x="3315960" y="123840"/>
            <a:ext cx="303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二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. </a:t>
            </a:r>
            <a:r>
              <a:rPr b="1" lang="zh-CN" sz="30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实对称矩阵的对角化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文本框 94212"/>
          <p:cNvSpPr/>
          <p:nvPr/>
        </p:nvSpPr>
        <p:spPr>
          <a:xfrm>
            <a:off x="3498120" y="700200"/>
            <a:ext cx="28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实对称矩阵是一类特殊的矩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它们必可对角化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矩形 94213"/>
          <p:cNvSpPr/>
          <p:nvPr/>
        </p:nvSpPr>
        <p:spPr>
          <a:xfrm>
            <a:off x="1332000" y="1276200"/>
            <a:ext cx="661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更可找到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正交矩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使得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-1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P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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正交相似对角化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矩形 94215"/>
          <p:cNvSpPr/>
          <p:nvPr/>
        </p:nvSpPr>
        <p:spPr>
          <a:xfrm>
            <a:off x="1146960" y="1868400"/>
            <a:ext cx="3560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此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先讨论实对称矩阵的性质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矩形 94216"/>
          <p:cNvSpPr/>
          <p:nvPr/>
        </p:nvSpPr>
        <p:spPr>
          <a:xfrm>
            <a:off x="1767240" y="2413800"/>
            <a:ext cx="4028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定理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实对称矩阵的特征值恒为实数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文本框 94218"/>
          <p:cNvSpPr/>
          <p:nvPr/>
        </p:nvSpPr>
        <p:spPr>
          <a:xfrm>
            <a:off x="250920" y="2936880"/>
            <a:ext cx="86868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复数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对称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特征值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复向量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对应的特征向量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即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x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显然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图片 94219" descr=""/>
          <p:cNvPicPr/>
          <p:nvPr/>
        </p:nvPicPr>
        <p:blipFill>
          <a:blip r:embed="rId1"/>
          <a:srcRect l="0" t="0" r="68081" b="0"/>
          <a:stretch/>
        </p:blipFill>
        <p:spPr>
          <a:xfrm>
            <a:off x="2627280" y="3851280"/>
            <a:ext cx="4105440" cy="73656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94220"/>
          <p:cNvSpPr/>
          <p:nvPr/>
        </p:nvSpPr>
        <p:spPr>
          <a:xfrm>
            <a:off x="1167840" y="4395960"/>
            <a:ext cx="6804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于是有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图片 94223" descr=""/>
          <p:cNvPicPr/>
          <p:nvPr/>
        </p:nvPicPr>
        <p:blipFill>
          <a:blip r:embed="rId2"/>
          <a:srcRect l="0" t="0" r="61289" b="0"/>
          <a:stretch/>
        </p:blipFill>
        <p:spPr>
          <a:xfrm>
            <a:off x="2341440" y="4321080"/>
            <a:ext cx="496728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98307" descr=""/>
          <p:cNvPicPr/>
          <p:nvPr/>
        </p:nvPicPr>
        <p:blipFill>
          <a:blip r:embed="rId1"/>
          <a:srcRect l="0" t="0" r="48381" b="0"/>
          <a:stretch/>
        </p:blipFill>
        <p:spPr>
          <a:xfrm>
            <a:off x="1488960" y="268200"/>
            <a:ext cx="6870960" cy="76212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98308"/>
          <p:cNvSpPr/>
          <p:nvPr/>
        </p:nvSpPr>
        <p:spPr>
          <a:xfrm>
            <a:off x="1134720" y="887400"/>
            <a:ext cx="134208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两式相减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得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图片 98309" descr=""/>
          <p:cNvPicPr/>
          <p:nvPr/>
        </p:nvPicPr>
        <p:blipFill>
          <a:blip r:embed="rId2"/>
          <a:srcRect l="0" t="0" r="81665" b="0"/>
          <a:stretch/>
        </p:blipFill>
        <p:spPr>
          <a:xfrm>
            <a:off x="3130560" y="743040"/>
            <a:ext cx="2160720" cy="67464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98310"/>
          <p:cNvSpPr/>
          <p:nvPr/>
        </p:nvSpPr>
        <p:spPr>
          <a:xfrm>
            <a:off x="835560" y="1440000"/>
            <a:ext cx="21193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但因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所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图片 98311" descr=""/>
          <p:cNvPicPr/>
          <p:nvPr/>
        </p:nvPicPr>
        <p:blipFill>
          <a:blip r:embed="rId3"/>
          <a:srcRect l="0" t="13825" r="70119" b="15065"/>
          <a:stretch/>
        </p:blipFill>
        <p:spPr>
          <a:xfrm>
            <a:off x="3419640" y="1177920"/>
            <a:ext cx="3744720" cy="76536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98312" descr=""/>
          <p:cNvPicPr/>
          <p:nvPr/>
        </p:nvPicPr>
        <p:blipFill>
          <a:blip r:embed="rId4"/>
          <a:srcRect l="0" t="20000" r="73515" b="20000"/>
          <a:stretch/>
        </p:blipFill>
        <p:spPr>
          <a:xfrm>
            <a:off x="682560" y="1943280"/>
            <a:ext cx="3313080" cy="430200"/>
          </a:xfrm>
          <a:prstGeom prst="rect">
            <a:avLst/>
          </a:prstGeom>
          <a:ln w="0">
            <a:noFill/>
          </a:ln>
        </p:spPr>
      </p:pic>
      <p:sp>
        <p:nvSpPr>
          <p:cNvPr id="148" name="矩形 98313"/>
          <p:cNvSpPr/>
          <p:nvPr/>
        </p:nvSpPr>
        <p:spPr>
          <a:xfrm>
            <a:off x="4633560" y="1923840"/>
            <a:ext cx="1866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这就说明是实数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矩形 98314"/>
          <p:cNvSpPr/>
          <p:nvPr/>
        </p:nvSpPr>
        <p:spPr>
          <a:xfrm>
            <a:off x="1829880" y="2522520"/>
            <a:ext cx="5596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定理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4 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实对称矩阵的不同特征值对应的特征向量正交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矩形 98315"/>
          <p:cNvSpPr/>
          <p:nvPr/>
        </p:nvSpPr>
        <p:spPr>
          <a:xfrm>
            <a:off x="398520" y="3008160"/>
            <a:ext cx="399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证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矩形 98317"/>
          <p:cNvSpPr/>
          <p:nvPr/>
        </p:nvSpPr>
        <p:spPr>
          <a:xfrm>
            <a:off x="1234080" y="3003480"/>
            <a:ext cx="46846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已知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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矩形 98318"/>
          <p:cNvSpPr/>
          <p:nvPr/>
        </p:nvSpPr>
        <p:spPr>
          <a:xfrm>
            <a:off x="839520" y="3544920"/>
            <a:ext cx="17485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因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对称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矩形 98319"/>
          <p:cNvSpPr/>
          <p:nvPr/>
        </p:nvSpPr>
        <p:spPr>
          <a:xfrm>
            <a:off x="7606440" y="3645000"/>
            <a:ext cx="11908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矩形 98320"/>
          <p:cNvSpPr/>
          <p:nvPr/>
        </p:nvSpPr>
        <p:spPr>
          <a:xfrm>
            <a:off x="6457680" y="3645000"/>
            <a:ext cx="1102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矩形 98321"/>
          <p:cNvSpPr/>
          <p:nvPr/>
        </p:nvSpPr>
        <p:spPr>
          <a:xfrm>
            <a:off x="5275800" y="3645000"/>
            <a:ext cx="12150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98322"/>
          <p:cNvSpPr/>
          <p:nvPr/>
        </p:nvSpPr>
        <p:spPr>
          <a:xfrm>
            <a:off x="4028400" y="3592440"/>
            <a:ext cx="12776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98323"/>
          <p:cNvSpPr/>
          <p:nvPr/>
        </p:nvSpPr>
        <p:spPr>
          <a:xfrm>
            <a:off x="1441080" y="3592440"/>
            <a:ext cx="25261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            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98324"/>
          <p:cNvSpPr/>
          <p:nvPr/>
        </p:nvSpPr>
        <p:spPr>
          <a:xfrm>
            <a:off x="645480" y="4130640"/>
            <a:ext cx="2667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于是            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98325"/>
          <p:cNvSpPr/>
          <p:nvPr/>
        </p:nvSpPr>
        <p:spPr>
          <a:xfrm>
            <a:off x="3471840" y="4192560"/>
            <a:ext cx="12592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8326"/>
          <p:cNvSpPr/>
          <p:nvPr/>
        </p:nvSpPr>
        <p:spPr>
          <a:xfrm>
            <a:off x="4875840" y="4192560"/>
            <a:ext cx="15962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矩形 98327"/>
          <p:cNvSpPr/>
          <p:nvPr/>
        </p:nvSpPr>
        <p:spPr>
          <a:xfrm>
            <a:off x="6502320" y="4192560"/>
            <a:ext cx="15354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99331"/>
          <p:cNvSpPr/>
          <p:nvPr/>
        </p:nvSpPr>
        <p:spPr>
          <a:xfrm>
            <a:off x="1810440" y="50760"/>
            <a:ext cx="42418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即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矩形 99332"/>
          <p:cNvSpPr/>
          <p:nvPr/>
        </p:nvSpPr>
        <p:spPr>
          <a:xfrm>
            <a:off x="1194120" y="627120"/>
            <a:ext cx="13561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但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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矩形 99333"/>
          <p:cNvSpPr/>
          <p:nvPr/>
        </p:nvSpPr>
        <p:spPr>
          <a:xfrm>
            <a:off x="4654800" y="627120"/>
            <a:ext cx="19407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即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与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正交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矩形 99334"/>
          <p:cNvSpPr/>
          <p:nvPr/>
        </p:nvSpPr>
        <p:spPr>
          <a:xfrm>
            <a:off x="2757600" y="627120"/>
            <a:ext cx="16254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故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矩形 99336"/>
          <p:cNvSpPr/>
          <p:nvPr/>
        </p:nvSpPr>
        <p:spPr>
          <a:xfrm>
            <a:off x="1152000" y="1205640"/>
            <a:ext cx="720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定理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阶实对称矩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是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重特征值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则特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矩形 99338"/>
          <p:cNvSpPr/>
          <p:nvPr/>
        </p:nvSpPr>
        <p:spPr>
          <a:xfrm>
            <a:off x="1400400" y="1708200"/>
            <a:ext cx="6708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征矩阵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E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秩为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-r</a:t>
            </a:r>
            <a:r>
              <a:rPr b="1" i="1" lang="en-US" sz="1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从而对应特征值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恰有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r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个线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矩形 99340"/>
          <p:cNvSpPr/>
          <p:nvPr/>
        </p:nvSpPr>
        <p:spPr>
          <a:xfrm>
            <a:off x="1056600" y="2139840"/>
            <a:ext cx="2013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性无关的特征向量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矩形 99341"/>
          <p:cNvSpPr/>
          <p:nvPr/>
        </p:nvSpPr>
        <p:spPr>
          <a:xfrm>
            <a:off x="466560" y="2650320"/>
            <a:ext cx="84981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定理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说明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实对称矩阵一定可以对角化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实际上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对于实对称矩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有更进一步的结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矩形 99345"/>
          <p:cNvSpPr/>
          <p:nvPr/>
        </p:nvSpPr>
        <p:spPr>
          <a:xfrm>
            <a:off x="1325880" y="3569040"/>
            <a:ext cx="6938280" cy="13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定理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实对称矩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则必有正交矩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使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得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-1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P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其中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是以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特征值为对角元素的对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矩阵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100355"/>
          <p:cNvSpPr/>
          <p:nvPr/>
        </p:nvSpPr>
        <p:spPr>
          <a:xfrm>
            <a:off x="384120" y="423720"/>
            <a:ext cx="837576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实对称矩阵正交相似对角化的步骤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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求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全部互不相等的特征值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s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它们的重数依次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s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2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对每个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重特征值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求方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基础解系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得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个线性无关的特征向量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再把它们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正交化、单位化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得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个两两正交的单位特征向量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共可得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个两两正交的单位特征向量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3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把这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个两两正交的单位特征向量构成正交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便有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P=P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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注意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中对角元的排列次序应与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中列向量的排列次序相对应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 102402"/>
          <p:cNvSpPr/>
          <p:nvPr/>
        </p:nvSpPr>
        <p:spPr>
          <a:xfrm>
            <a:off x="228600" y="627120"/>
            <a:ext cx="86868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求正交阵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使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对角阵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图片 102403" descr=""/>
          <p:cNvPicPr/>
          <p:nvPr/>
        </p:nvPicPr>
        <p:blipFill>
          <a:blip r:embed="rId1"/>
          <a:srcRect l="0" t="0" r="83024" b="0"/>
          <a:stretch/>
        </p:blipFill>
        <p:spPr>
          <a:xfrm>
            <a:off x="2031840" y="339840"/>
            <a:ext cx="2087640" cy="105552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102404"/>
          <p:cNvSpPr/>
          <p:nvPr/>
        </p:nvSpPr>
        <p:spPr>
          <a:xfrm>
            <a:off x="242640" y="1353960"/>
            <a:ext cx="122904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解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矩形 102405"/>
          <p:cNvSpPr/>
          <p:nvPr/>
        </p:nvSpPr>
        <p:spPr>
          <a:xfrm>
            <a:off x="1548360" y="1353960"/>
            <a:ext cx="35661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由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= -(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1)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2)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矩形 102411"/>
          <p:cNvSpPr/>
          <p:nvPr/>
        </p:nvSpPr>
        <p:spPr>
          <a:xfrm>
            <a:off x="4992840" y="1353960"/>
            <a:ext cx="41688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得特征值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 -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矩形 102412"/>
          <p:cNvSpPr/>
          <p:nvPr/>
        </p:nvSpPr>
        <p:spPr>
          <a:xfrm>
            <a:off x="726120" y="3117960"/>
            <a:ext cx="33130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得基础解系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(-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-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1)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矩形 102413"/>
          <p:cNvSpPr/>
          <p:nvPr/>
        </p:nvSpPr>
        <p:spPr>
          <a:xfrm>
            <a:off x="656280" y="1738440"/>
            <a:ext cx="48801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对应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-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解方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0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由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文本框 102419"/>
          <p:cNvSpPr/>
          <p:nvPr/>
        </p:nvSpPr>
        <p:spPr>
          <a:xfrm>
            <a:off x="664560" y="3603600"/>
            <a:ext cx="17917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将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单位化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得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图片 102420" descr=""/>
          <p:cNvPicPr/>
          <p:nvPr/>
        </p:nvPicPr>
        <p:blipFill>
          <a:blip r:embed="rId2"/>
          <a:srcRect l="0" t="0" r="75556" b="0"/>
          <a:stretch/>
        </p:blipFill>
        <p:spPr>
          <a:xfrm>
            <a:off x="2700360" y="3490920"/>
            <a:ext cx="2814480" cy="660240"/>
          </a:xfrm>
          <a:prstGeom prst="rect">
            <a:avLst/>
          </a:prstGeom>
          <a:ln w="0">
            <a:noFill/>
          </a:ln>
        </p:spPr>
      </p:pic>
      <p:sp>
        <p:nvSpPr>
          <p:cNvPr id="181" name="矩形 102421"/>
          <p:cNvSpPr/>
          <p:nvPr/>
        </p:nvSpPr>
        <p:spPr>
          <a:xfrm>
            <a:off x="712800" y="4199040"/>
            <a:ext cx="56484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对应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解方程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-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0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矩形 102423"/>
          <p:cNvSpPr/>
          <p:nvPr/>
        </p:nvSpPr>
        <p:spPr>
          <a:xfrm>
            <a:off x="2746080" y="2465280"/>
            <a:ext cx="1148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对象 102424"/>
          <p:cNvGraphicFramePr/>
          <p:nvPr/>
        </p:nvGraphicFramePr>
        <p:xfrm>
          <a:off x="4002120" y="2046240"/>
          <a:ext cx="3595680" cy="11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对象 1024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2120" y="2046240"/>
                    <a:ext cx="359568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文本框 105477"/>
          <p:cNvSpPr/>
          <p:nvPr/>
        </p:nvSpPr>
        <p:spPr>
          <a:xfrm>
            <a:off x="611280" y="1665360"/>
            <a:ext cx="79214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(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0)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(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0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1)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 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将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正交化、单位化得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图片 105478" descr=""/>
          <p:cNvPicPr/>
          <p:nvPr/>
        </p:nvPicPr>
        <p:blipFill>
          <a:blip r:embed="rId1"/>
          <a:srcRect l="0" t="0" r="55173" b="0"/>
          <a:stretch/>
        </p:blipFill>
        <p:spPr>
          <a:xfrm>
            <a:off x="1979640" y="2475000"/>
            <a:ext cx="5607000" cy="717480"/>
          </a:xfrm>
          <a:prstGeom prst="rect">
            <a:avLst/>
          </a:prstGeom>
          <a:ln w="0">
            <a:noFill/>
          </a:ln>
        </p:spPr>
      </p:pic>
      <p:sp>
        <p:nvSpPr>
          <p:cNvPr id="187" name="矩形 105480"/>
          <p:cNvSpPr/>
          <p:nvPr/>
        </p:nvSpPr>
        <p:spPr>
          <a:xfrm>
            <a:off x="1044720" y="1179360"/>
            <a:ext cx="12535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得基础解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矩形 105481"/>
          <p:cNvSpPr/>
          <p:nvPr/>
        </p:nvSpPr>
        <p:spPr>
          <a:xfrm>
            <a:off x="5286240" y="3170160"/>
            <a:ext cx="223848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并且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矩形 105482"/>
          <p:cNvSpPr/>
          <p:nvPr/>
        </p:nvSpPr>
        <p:spPr>
          <a:xfrm>
            <a:off x="851760" y="3122640"/>
            <a:ext cx="40449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于是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 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正交阵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矩形 105483"/>
          <p:cNvSpPr/>
          <p:nvPr/>
        </p:nvSpPr>
        <p:spPr>
          <a:xfrm>
            <a:off x="1803600" y="614520"/>
            <a:ext cx="1055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+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对象 105484"/>
          <p:cNvGraphicFramePr/>
          <p:nvPr/>
        </p:nvGraphicFramePr>
        <p:xfrm>
          <a:off x="2975040" y="195120"/>
          <a:ext cx="3787560" cy="11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对象 10548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5040" y="195120"/>
                    <a:ext cx="378756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矩形 105485"/>
          <p:cNvSpPr/>
          <p:nvPr/>
        </p:nvSpPr>
        <p:spPr>
          <a:xfrm>
            <a:off x="2112120" y="3989520"/>
            <a:ext cx="2495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P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=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对象 105486"/>
          <p:cNvGraphicFramePr/>
          <p:nvPr/>
        </p:nvGraphicFramePr>
        <p:xfrm>
          <a:off x="4645080" y="3556080"/>
          <a:ext cx="1655640" cy="120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5" name="对象 10548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5080" y="3556080"/>
                    <a:ext cx="16556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4760" y="645840"/>
            <a:ext cx="7038720" cy="414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第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节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矩阵的对角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矩形 34849"/>
          <p:cNvSpPr/>
          <p:nvPr/>
        </p:nvSpPr>
        <p:spPr>
          <a:xfrm>
            <a:off x="1672560" y="577080"/>
            <a:ext cx="604620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由前一节知道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一个能和对角矩阵相似的矩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具有良好的运算性质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但遗憾的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并不是每一个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阵都能和一个对角矩阵相似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下面我们讨论的主要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题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: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对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阶方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寻求一个相似变换矩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使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AP</a:t>
            </a:r>
            <a:r>
              <a:rPr b="1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为对角矩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该过程称为把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方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对角化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当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首先讨论方阵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可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对角化的条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再给出方阵对角化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步骤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矩形 34850"/>
          <p:cNvSpPr/>
          <p:nvPr/>
        </p:nvSpPr>
        <p:spPr>
          <a:xfrm>
            <a:off x="3447000" y="3736080"/>
            <a:ext cx="28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一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. </a:t>
            </a:r>
            <a:r>
              <a:rPr b="1" lang="zh-CN" sz="30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方阵的对角化问题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文本框 34851"/>
          <p:cNvSpPr/>
          <p:nvPr/>
        </p:nvSpPr>
        <p:spPr>
          <a:xfrm>
            <a:off x="3565080" y="4224240"/>
            <a:ext cx="303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二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. </a:t>
            </a:r>
            <a:r>
              <a:rPr b="1" lang="zh-CN" sz="30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实对称矩阵的对角化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文本框 103432"/>
          <p:cNvSpPr/>
          <p:nvPr/>
        </p:nvSpPr>
        <p:spPr>
          <a:xfrm>
            <a:off x="2411280" y="1546200"/>
            <a:ext cx="58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习题五：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5.1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5.16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5.17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矩形 103433"/>
          <p:cNvSpPr/>
          <p:nvPr/>
        </p:nvSpPr>
        <p:spPr>
          <a:xfrm>
            <a:off x="1692360" y="789120"/>
            <a:ext cx="5545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作  业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9635"/>
          <p:cNvSpPr/>
          <p:nvPr/>
        </p:nvSpPr>
        <p:spPr>
          <a:xfrm>
            <a:off x="1616400" y="629280"/>
            <a:ext cx="28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一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. </a:t>
            </a:r>
            <a:r>
              <a:rPr b="1" lang="zh-CN" sz="30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方阵的对角化问题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69636"/>
          <p:cNvSpPr/>
          <p:nvPr/>
        </p:nvSpPr>
        <p:spPr>
          <a:xfrm>
            <a:off x="1319400" y="881280"/>
            <a:ext cx="6743160" cy="11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假设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阶方阵可对角化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即存在可逆矩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使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AP</a:t>
            </a:r>
            <a:r>
              <a:rPr b="1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为对角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下面我们来讨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具有什么特点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69640"/>
          <p:cNvSpPr/>
          <p:nvPr/>
        </p:nvSpPr>
        <p:spPr>
          <a:xfrm>
            <a:off x="1673280" y="1874160"/>
            <a:ext cx="2106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把用其列向量表示为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矩形 69642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对象 69641"/>
          <p:cNvGraphicFramePr/>
          <p:nvPr/>
        </p:nvGraphicFramePr>
        <p:xfrm>
          <a:off x="2987640" y="2247840"/>
          <a:ext cx="316692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对象 696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247840"/>
                    <a:ext cx="31669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矩形 69643"/>
          <p:cNvSpPr/>
          <p:nvPr/>
        </p:nvSpPr>
        <p:spPr>
          <a:xfrm>
            <a:off x="330840" y="2787480"/>
            <a:ext cx="8162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则由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i="1" lang="zh-CN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－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P =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diag(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1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得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P =  P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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对象 69644"/>
          <p:cNvGraphicFramePr/>
          <p:nvPr/>
        </p:nvGraphicFramePr>
        <p:xfrm>
          <a:off x="324000" y="3219480"/>
          <a:ext cx="8353440" cy="176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对象 6964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219480"/>
                    <a:ext cx="835344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内容占位符 70659"/>
          <p:cNvGraphicFramePr/>
          <p:nvPr/>
        </p:nvGraphicFramePr>
        <p:xfrm>
          <a:off x="1908000" y="117360"/>
          <a:ext cx="655344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内容占位符 7065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17360"/>
                    <a:ext cx="65534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矩形 70661"/>
          <p:cNvSpPr/>
          <p:nvPr/>
        </p:nvSpPr>
        <p:spPr>
          <a:xfrm>
            <a:off x="624600" y="556920"/>
            <a:ext cx="733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于是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内容占位符 70662"/>
          <p:cNvGraphicFramePr/>
          <p:nvPr/>
        </p:nvGraphicFramePr>
        <p:xfrm>
          <a:off x="2541600" y="587520"/>
          <a:ext cx="4392720" cy="41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内容占位符 7066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41600" y="587520"/>
                    <a:ext cx="439272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矩形 70665"/>
          <p:cNvSpPr/>
          <p:nvPr/>
        </p:nvSpPr>
        <p:spPr>
          <a:xfrm>
            <a:off x="1259640" y="842400"/>
            <a:ext cx="6609960" cy="19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可见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i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是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特征值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列向量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i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就是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对应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特征值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特征向量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i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因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是可逆的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所以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</a:t>
            </a:r>
            <a:r>
              <a:rPr b="1" lang="zh-CN" sz="1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列向量线性无关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故知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有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个线性无关的特征向量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矩形 70666"/>
          <p:cNvSpPr/>
          <p:nvPr/>
        </p:nvSpPr>
        <p:spPr>
          <a:xfrm>
            <a:off x="1222560" y="2656440"/>
            <a:ext cx="6730560" cy="24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反之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若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阶方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恰好有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个特征值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可对应地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得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个特征向量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这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个特征向量即可构成矩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使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P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当方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这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个特征向量线性无关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矩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逆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于是我们有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-1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P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即方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可相似对角化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73734"/>
          <p:cNvSpPr/>
          <p:nvPr/>
        </p:nvSpPr>
        <p:spPr>
          <a:xfrm>
            <a:off x="2367720" y="341280"/>
            <a:ext cx="547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定理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一个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阶方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与对角矩阵相似的充分必要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矩形 73736"/>
          <p:cNvSpPr/>
          <p:nvPr/>
        </p:nvSpPr>
        <p:spPr>
          <a:xfrm>
            <a:off x="1433160" y="824040"/>
            <a:ext cx="3848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条件是它有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个线性无关的特征向量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矩形 73737"/>
          <p:cNvSpPr/>
          <p:nvPr/>
        </p:nvSpPr>
        <p:spPr>
          <a:xfrm>
            <a:off x="1763640" y="1422360"/>
            <a:ext cx="5986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推论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若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阶方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个特征值互不相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则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可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73739"/>
          <p:cNvSpPr/>
          <p:nvPr/>
        </p:nvSpPr>
        <p:spPr>
          <a:xfrm>
            <a:off x="538200" y="1924200"/>
            <a:ext cx="826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对角化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矩形 73740"/>
          <p:cNvSpPr/>
          <p:nvPr/>
        </p:nvSpPr>
        <p:spPr>
          <a:xfrm>
            <a:off x="1614240" y="2331000"/>
            <a:ext cx="598860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当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阶方阵的特征方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有重根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时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就不一定有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线性无关的特征向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从而不一定能对角化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但属于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每个特征值的线性无关的特征向量的个数恰好等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该特征值的重数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则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也可对角化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74756"/>
          <p:cNvSpPr/>
          <p:nvPr/>
        </p:nvSpPr>
        <p:spPr>
          <a:xfrm>
            <a:off x="395280" y="339840"/>
            <a:ext cx="856944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定理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阶矩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可对角化的充要条件是对于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每一个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重特征值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有 </a:t>
            </a:r>
            <a:r>
              <a:rPr b="1" i="1" lang="en-US" sz="28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r 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A- </a:t>
            </a:r>
            <a:r>
              <a:rPr b="1" lang="en-US" sz="2800" spc="-1" strike="noStrike">
                <a:solidFill>
                  <a:srgbClr val="9900cc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 baseline="-25000">
                <a:solidFill>
                  <a:srgbClr val="9900cc"/>
                </a:solidFill>
                <a:latin typeface="Times New Roman"/>
                <a:ea typeface="华文中宋"/>
              </a:rPr>
              <a:t>i</a:t>
            </a:r>
            <a:r>
              <a:rPr b="1" i="1" lang="en-US" sz="28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E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) = </a:t>
            </a:r>
            <a:r>
              <a:rPr b="1" i="1" lang="en-US" sz="28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n-k</a:t>
            </a:r>
            <a:r>
              <a:rPr b="1" i="1" lang="en-US" sz="2800" spc="-1" strike="noStrike" baseline="-25000">
                <a:solidFill>
                  <a:srgbClr val="9900cc"/>
                </a:solidFill>
                <a:latin typeface="Times New Roman"/>
                <a:ea typeface="华文中宋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矩形 74757"/>
          <p:cNvSpPr/>
          <p:nvPr/>
        </p:nvSpPr>
        <p:spPr>
          <a:xfrm>
            <a:off x="563400" y="1906560"/>
            <a:ext cx="1046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1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矩形 74759"/>
          <p:cNvSpPr/>
          <p:nvPr/>
        </p:nvSpPr>
        <p:spPr>
          <a:xfrm>
            <a:off x="-684360" y="18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对象 74758"/>
          <p:cNvGraphicFramePr/>
          <p:nvPr/>
        </p:nvGraphicFramePr>
        <p:xfrm>
          <a:off x="1554120" y="1527120"/>
          <a:ext cx="2363760" cy="12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对象 747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1527120"/>
                    <a:ext cx="2363760" cy="12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矩形 74760"/>
          <p:cNvSpPr/>
          <p:nvPr/>
        </p:nvSpPr>
        <p:spPr>
          <a:xfrm>
            <a:off x="4503960" y="1909800"/>
            <a:ext cx="4196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问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何值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矩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能对角化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矩形 74761"/>
          <p:cNvSpPr/>
          <p:nvPr/>
        </p:nvSpPr>
        <p:spPr>
          <a:xfrm>
            <a:off x="718200" y="2932920"/>
            <a:ext cx="706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解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由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矩形 74763"/>
          <p:cNvSpPr/>
          <p:nvPr/>
        </p:nvSpPr>
        <p:spPr>
          <a:xfrm>
            <a:off x="0" y="18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对象 74762"/>
          <p:cNvGraphicFramePr/>
          <p:nvPr/>
        </p:nvGraphicFramePr>
        <p:xfrm>
          <a:off x="1763640" y="2824200"/>
          <a:ext cx="6337440" cy="13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对象 7476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2824200"/>
                    <a:ext cx="633744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矩形 74765"/>
          <p:cNvSpPr/>
          <p:nvPr/>
        </p:nvSpPr>
        <p:spPr>
          <a:xfrm>
            <a:off x="612000" y="4066200"/>
            <a:ext cx="214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华文中宋"/>
              </a:rPr>
              <a:t>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对象 74764"/>
          <p:cNvGraphicFramePr/>
          <p:nvPr/>
        </p:nvGraphicFramePr>
        <p:xfrm>
          <a:off x="995400" y="4094280"/>
          <a:ext cx="258300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对象 7476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5400" y="4094280"/>
                    <a:ext cx="25830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75779"/>
          <p:cNvSpPr/>
          <p:nvPr/>
        </p:nvSpPr>
        <p:spPr>
          <a:xfrm>
            <a:off x="1390320" y="456480"/>
            <a:ext cx="6856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对应单根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 -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可求得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r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=2=3-1.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故矩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矩形 75780"/>
          <p:cNvSpPr/>
          <p:nvPr/>
        </p:nvSpPr>
        <p:spPr>
          <a:xfrm>
            <a:off x="1883880" y="882720"/>
            <a:ext cx="51001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对角化的充分必要条件是对应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重根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2,3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有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矩形 75782"/>
          <p:cNvSpPr/>
          <p:nvPr/>
        </p:nvSpPr>
        <p:spPr>
          <a:xfrm>
            <a:off x="3362040" y="1359000"/>
            <a:ext cx="2558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r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-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 = 3-2 =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矩形 75784"/>
          <p:cNvSpPr/>
          <p:nvPr/>
        </p:nvSpPr>
        <p:spPr>
          <a:xfrm>
            <a:off x="839520" y="1736640"/>
            <a:ext cx="30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又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矩形 75786"/>
          <p:cNvSpPr/>
          <p:nvPr/>
        </p:nvSpPr>
        <p:spPr>
          <a:xfrm>
            <a:off x="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对象 75785"/>
          <p:cNvGraphicFramePr/>
          <p:nvPr/>
        </p:nvGraphicFramePr>
        <p:xfrm>
          <a:off x="1692360" y="1892160"/>
          <a:ext cx="5497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对象 757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92160"/>
                    <a:ext cx="5497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矩形 75788"/>
          <p:cNvSpPr/>
          <p:nvPr/>
        </p:nvSpPr>
        <p:spPr>
          <a:xfrm>
            <a:off x="1243080" y="3247920"/>
            <a:ext cx="4492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因此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当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 -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时矩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可对角化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矩形 75789"/>
          <p:cNvSpPr/>
          <p:nvPr/>
        </p:nvSpPr>
        <p:spPr>
          <a:xfrm>
            <a:off x="1224000" y="3736080"/>
            <a:ext cx="1787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可对角化的条件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矩形 75791"/>
          <p:cNvSpPr/>
          <p:nvPr/>
        </p:nvSpPr>
        <p:spPr>
          <a:xfrm>
            <a:off x="4128120" y="3789360"/>
            <a:ext cx="4272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1.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n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阶方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个特征值互不相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;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矩形 75793"/>
          <p:cNvSpPr/>
          <p:nvPr/>
        </p:nvSpPr>
        <p:spPr>
          <a:xfrm>
            <a:off x="1253880" y="4275000"/>
            <a:ext cx="5383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每一个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重特征值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有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r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-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=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-k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76803"/>
          <p:cNvSpPr/>
          <p:nvPr/>
        </p:nvSpPr>
        <p:spPr>
          <a:xfrm>
            <a:off x="1019160" y="448560"/>
            <a:ext cx="1361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矩阵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内容占位符 76804"/>
          <p:cNvGraphicFramePr/>
          <p:nvPr/>
        </p:nvGraphicFramePr>
        <p:xfrm>
          <a:off x="3073320" y="50760"/>
          <a:ext cx="280836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内容占位符 7680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3320" y="50760"/>
                    <a:ext cx="28083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矩形 76806"/>
          <p:cNvSpPr/>
          <p:nvPr/>
        </p:nvSpPr>
        <p:spPr>
          <a:xfrm>
            <a:off x="1526760" y="1217520"/>
            <a:ext cx="514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能否对角化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？若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将其对角化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并求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10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矩形 76807"/>
          <p:cNvSpPr/>
          <p:nvPr/>
        </p:nvSpPr>
        <p:spPr>
          <a:xfrm>
            <a:off x="816840" y="1703160"/>
            <a:ext cx="706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解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由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图片 76811" descr="图片1"/>
          <p:cNvPicPr/>
          <p:nvPr/>
        </p:nvPicPr>
        <p:blipFill>
          <a:blip r:embed="rId3"/>
          <a:srcRect l="8637" t="0" r="6857" b="0"/>
          <a:stretch/>
        </p:blipFill>
        <p:spPr>
          <a:xfrm>
            <a:off x="1692360" y="1755720"/>
            <a:ext cx="6337080" cy="1130400"/>
          </a:xfrm>
          <a:prstGeom prst="rect">
            <a:avLst/>
          </a:prstGeom>
          <a:ln w="0">
            <a:noFill/>
          </a:ln>
        </p:spPr>
      </p:pic>
      <p:sp>
        <p:nvSpPr>
          <p:cNvPr id="94" name="矩形 76815"/>
          <p:cNvSpPr/>
          <p:nvPr/>
        </p:nvSpPr>
        <p:spPr>
          <a:xfrm>
            <a:off x="1391760" y="2806560"/>
            <a:ext cx="1794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华文中宋"/>
              </a:rPr>
              <a:t>得          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对象 76816"/>
          <p:cNvGraphicFramePr/>
          <p:nvPr/>
        </p:nvGraphicFramePr>
        <p:xfrm>
          <a:off x="1146240" y="2836800"/>
          <a:ext cx="2417760" cy="42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对象 768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46240" y="2836800"/>
                    <a:ext cx="24177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矩形 76820"/>
          <p:cNvSpPr/>
          <p:nvPr/>
        </p:nvSpPr>
        <p:spPr>
          <a:xfrm>
            <a:off x="1052640" y="3186000"/>
            <a:ext cx="50097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 -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时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解方程组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+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0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由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图片 76827" descr="图片2"/>
          <p:cNvPicPr/>
          <p:nvPr/>
        </p:nvPicPr>
        <p:blipFill>
          <a:blip r:embed="rId6"/>
          <a:stretch/>
        </p:blipFill>
        <p:spPr>
          <a:xfrm>
            <a:off x="2268360" y="3592440"/>
            <a:ext cx="583272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内容占位符 83971"/>
          <p:cNvGraphicFramePr/>
          <p:nvPr/>
        </p:nvGraphicFramePr>
        <p:xfrm>
          <a:off x="4497480" y="303120"/>
          <a:ext cx="1568520" cy="12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内容占位符 8397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7480" y="303120"/>
                    <a:ext cx="1568520" cy="12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矩形 83973"/>
          <p:cNvSpPr/>
          <p:nvPr/>
        </p:nvSpPr>
        <p:spPr>
          <a:xfrm>
            <a:off x="2369880" y="849240"/>
            <a:ext cx="116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得基础解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对象 83974"/>
          <p:cNvGraphicFramePr/>
          <p:nvPr/>
        </p:nvGraphicFramePr>
        <p:xfrm>
          <a:off x="2008080" y="2104920"/>
          <a:ext cx="5516640" cy="12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对象 8397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8080" y="2104920"/>
                    <a:ext cx="551664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对象 83975"/>
          <p:cNvGraphicFramePr/>
          <p:nvPr/>
        </p:nvGraphicFramePr>
        <p:xfrm>
          <a:off x="2684520" y="3470400"/>
          <a:ext cx="3182760" cy="126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对象 8397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84520" y="3470400"/>
                    <a:ext cx="3182760" cy="12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矩形 83979"/>
          <p:cNvSpPr/>
          <p:nvPr/>
        </p:nvSpPr>
        <p:spPr>
          <a:xfrm>
            <a:off x="1122120" y="3922560"/>
            <a:ext cx="116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得基础解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矩形 83980"/>
          <p:cNvSpPr/>
          <p:nvPr/>
        </p:nvSpPr>
        <p:spPr>
          <a:xfrm>
            <a:off x="1126440" y="1463040"/>
            <a:ext cx="47844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2,3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 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时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解方程组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-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0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由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06:29:18Z</dcterms:created>
  <dc:creator/>
  <dc:description/>
  <cp:keywords/>
  <dc:language>en-US</dc:language>
  <cp:lastModifiedBy>lisiyan</cp:lastModifiedBy>
  <dcterms:modified xsi:type="dcterms:W3CDTF">2017-06-06T14:36:41Z</dcterms:modified>
  <cp:revision>1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90</vt:lpwstr>
  </property>
</Properties>
</file>