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392120" cy="395280"/>
          </a:xfrm>
          <a:prstGeom prst="rect">
            <a:avLst/>
          </a:prstGeom>
          <a:ln w="0">
            <a:noFill/>
          </a:ln>
        </p:spPr>
      </p:pic>
      <p:pic>
        <p:nvPicPr>
          <p:cNvPr id="1" name="矩形 7" descr=""/>
          <p:cNvPicPr/>
          <p:nvPr/>
        </p:nvPicPr>
        <p:blipFill>
          <a:blip r:embed="rId4"/>
          <a:stretch/>
        </p:blipFill>
        <p:spPr>
          <a:xfrm>
            <a:off x="5456160" y="4730760"/>
            <a:ext cx="37432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file:///&#32447;&#24615;&#20195;&#25968;&#30005;&#23376;&#25945;&#26696;/&#20027;&#30028;&#38754;.PPT" TargetMode="External"/><Relationship Id="rId4" Type="http://schemas.openxmlformats.org/officeDocument/2006/relationships/hyperlink" Target="file:///&#32447;&#24615;&#20195;&#25968;&#30005;&#23376;&#25945;&#26696;/&#20027;&#30028;&#38754;.PPT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file:///&#32447;&#24615;&#20195;&#25968;&#30005;&#23376;&#25945;&#26696;/&#20027;&#30028;&#38754;.PPT" TargetMode="External"/><Relationship Id="rId4" Type="http://schemas.openxmlformats.org/officeDocument/2006/relationships/hyperlink" Target="file:///&#32447;&#24615;&#20195;&#25968;&#30005;&#23376;&#25945;&#26696;/&#20027;&#30028;&#38754;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file:///&#32447;&#24615;&#20195;&#25968;&#30005;&#23376;&#25945;&#26696;/&#20027;&#30028;&#38754;.PPT" TargetMode="External"/><Relationship Id="rId4" Type="http://schemas.openxmlformats.org/officeDocument/2006/relationships/hyperlink" Target="file:///&#32447;&#24615;&#20195;&#25968;&#30005;&#23376;&#25945;&#26696;/&#20027;&#30028;&#38754;.PPT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684360" y="1168560"/>
            <a:ext cx="77724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线性代数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498320" y="1606680"/>
            <a:ext cx="5207400" cy="537120"/>
            <a:chOff x="1498320" y="1606680"/>
            <a:chExt cx="5207400" cy="537120"/>
          </a:xfrm>
        </p:grpSpPr>
        <p:sp>
          <p:nvSpPr>
            <p:cNvPr id="121" name="Rectangle 3"/>
            <p:cNvSpPr/>
            <p:nvPr/>
          </p:nvSpPr>
          <p:spPr>
            <a:xfrm>
              <a:off x="1498320" y="1623240"/>
              <a:ext cx="390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于方程组      与方程组       同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4"/>
                <p:cNvSpPr txBox="1"/>
                <p:nvPr/>
              </p:nvSpPr>
              <p:spPr>
                <a:xfrm>
                  <a:off x="2755800" y="1731600"/>
                  <a:ext cx="444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4698720" y="1732680"/>
                  <a:ext cx="4194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Text Box 6"/>
            <p:cNvSpPr/>
            <p:nvPr/>
          </p:nvSpPr>
          <p:spPr>
            <a:xfrm>
              <a:off x="6311520" y="1606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306440" y="2238480"/>
                <a:ext cx="616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Group 8"/>
          <p:cNvGrpSpPr/>
          <p:nvPr/>
        </p:nvGrpSpPr>
        <p:grpSpPr>
          <a:xfrm>
            <a:off x="1380600" y="3063960"/>
            <a:ext cx="2405880" cy="520560"/>
            <a:chOff x="1380600" y="3063960"/>
            <a:chExt cx="2405880" cy="520560"/>
          </a:xfrm>
        </p:grpSpPr>
        <p:sp>
          <p:nvSpPr>
            <p:cNvPr id="127" name="Rectangle 9"/>
            <p:cNvSpPr/>
            <p:nvPr/>
          </p:nvSpPr>
          <p:spPr>
            <a:xfrm>
              <a:off x="1380600" y="3063960"/>
              <a:ext cx="240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也是方程组的      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10"/>
                <p:cNvSpPr txBox="1"/>
                <p:nvPr/>
              </p:nvSpPr>
              <p:spPr>
                <a:xfrm>
                  <a:off x="3200400" y="3133800"/>
                  <a:ext cx="41904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Rectangle 11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3276720" y="1346040"/>
          <a:ext cx="280800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46040"/>
                    <a:ext cx="28080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2556000" y="2733840"/>
          <a:ext cx="3528720" cy="108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733840"/>
                    <a:ext cx="35287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1420200" y="677520"/>
            <a:ext cx="24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60240" y="29890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1333440" y="428760"/>
          <a:ext cx="38862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428760"/>
                    <a:ext cx="38862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1549440" y="1565280"/>
          <a:ext cx="287820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9440" y="1565280"/>
                    <a:ext cx="28782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4849920" y="1488960"/>
          <a:ext cx="296388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9920" y="1488960"/>
                    <a:ext cx="296388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2063880" y="2657520"/>
          <a:ext cx="2868480" cy="112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3880" y="2657520"/>
                    <a:ext cx="286848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1825560" y="3814920"/>
          <a:ext cx="6423120" cy="70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5560" y="3814920"/>
                    <a:ext cx="64231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"/>
          <p:cNvSpPr/>
          <p:nvPr/>
        </p:nvSpPr>
        <p:spPr>
          <a:xfrm>
            <a:off x="611280" y="3593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620440" y="53964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齐次线性方程组的相关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1981080" y="1203480"/>
                <a:ext cx="553896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0" name="Group 4"/>
          <p:cNvGrpSpPr/>
          <p:nvPr/>
        </p:nvGrpSpPr>
        <p:grpSpPr>
          <a:xfrm>
            <a:off x="250920" y="3166920"/>
            <a:ext cx="8713800" cy="1373760"/>
            <a:chOff x="250920" y="3166920"/>
            <a:chExt cx="8713800" cy="1373760"/>
          </a:xfrm>
        </p:grpSpPr>
        <p:sp>
          <p:nvSpPr>
            <p:cNvPr id="151" name="Rectangle 5"/>
            <p:cNvSpPr/>
            <p:nvPr/>
          </p:nvSpPr>
          <p:spPr>
            <a:xfrm>
              <a:off x="250920" y="3166920"/>
              <a:ext cx="8713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定理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.5.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齐次线性方程组   的系数行列式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则齐次线性方程组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只有零解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6"/>
                <p:cNvSpPr txBox="1"/>
                <p:nvPr/>
              </p:nvSpPr>
              <p:spPr>
                <a:xfrm>
                  <a:off x="402120" y="3723120"/>
                  <a:ext cx="90900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7"/>
                <p:cNvSpPr txBox="1"/>
                <p:nvPr/>
              </p:nvSpPr>
              <p:spPr>
                <a:xfrm>
                  <a:off x="5245200" y="3256920"/>
                  <a:ext cx="478440" cy="32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8"/>
                <p:cNvSpPr txBox="1"/>
                <p:nvPr/>
              </p:nvSpPr>
              <p:spPr>
                <a:xfrm>
                  <a:off x="4597920" y="3760920"/>
                  <a:ext cx="478440" cy="32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Rectangle 9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684360" y="771480"/>
            <a:ext cx="8762760" cy="1149840"/>
            <a:chOff x="684360" y="771480"/>
            <a:chExt cx="8762760" cy="1149840"/>
          </a:xfrm>
        </p:grpSpPr>
        <p:sp>
          <p:nvSpPr>
            <p:cNvPr id="158" name="Rectangle 3"/>
            <p:cNvSpPr/>
            <p:nvPr/>
          </p:nvSpPr>
          <p:spPr>
            <a:xfrm>
              <a:off x="684360" y="771480"/>
              <a:ext cx="8762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推论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齐次线性方程组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" name="Object 4"/>
            <p:cNvGraphicFramePr/>
            <p:nvPr/>
          </p:nvGraphicFramePr>
          <p:xfrm>
            <a:off x="5219640" y="879840"/>
            <a:ext cx="480960" cy="32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879840"/>
                      <a:ext cx="48096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Rectangle 5"/>
            <p:cNvSpPr/>
            <p:nvPr/>
          </p:nvSpPr>
          <p:spPr>
            <a:xfrm>
              <a:off x="6067080" y="77148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有非零解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则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290240" y="1400760"/>
              <a:ext cx="23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系数行列式必为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2484360" y="2463840"/>
                <a:ext cx="48657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8"/>
          <p:cNvSpPr/>
          <p:nvPr/>
        </p:nvSpPr>
        <p:spPr>
          <a:xfrm>
            <a:off x="2421000" y="4227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非零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84360" y="19242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问题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系数行列式       能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924360" y="2030400"/>
                <a:ext cx="1162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AutoShape 11"/>
          <p:cNvSpPr/>
          <p:nvPr/>
        </p:nvSpPr>
        <p:spPr>
          <a:xfrm>
            <a:off x="1403280" y="3112920"/>
            <a:ext cx="914400" cy="228600"/>
          </a:xfrm>
          <a:prstGeom prst="rightArrow">
            <a:avLst>
              <a:gd name="adj1" fmla="val 57639"/>
              <a:gd name="adj2" fmla="val 983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>
            <a:hlinkClick r:id="rId3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>
            <a:hlinkClick r:id="rId4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5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515320" y="390600"/>
            <a:ext cx="29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齐次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1547640" y="914400"/>
          <a:ext cx="3456000" cy="17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14400"/>
                    <a:ext cx="345600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4"/>
          <p:cNvSpPr/>
          <p:nvPr/>
        </p:nvSpPr>
        <p:spPr>
          <a:xfrm>
            <a:off x="1406160" y="3228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149560" y="2786040"/>
          <a:ext cx="273528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2786040"/>
                    <a:ext cx="27352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092280" y="14367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否仅有零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003640" y="3112920"/>
          <a:ext cx="148284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3112920"/>
                    <a:ext cx="148284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0"/>
          <p:cNvSpPr/>
          <p:nvPr/>
        </p:nvSpPr>
        <p:spPr>
          <a:xfrm>
            <a:off x="1978560" y="41925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方程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仅有零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32000" y="843120"/>
            <a:ext cx="5008320" cy="2854800"/>
            <a:chOff x="1332000" y="843120"/>
            <a:chExt cx="5008320" cy="2854800"/>
          </a:xfrm>
        </p:grpSpPr>
        <p:sp>
          <p:nvSpPr>
            <p:cNvPr id="183" name="Text Box 3"/>
            <p:cNvSpPr/>
            <p:nvPr/>
          </p:nvSpPr>
          <p:spPr>
            <a:xfrm>
              <a:off x="2274840" y="843120"/>
              <a:ext cx="40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问    取何值时，齐次线性方程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4"/>
                <p:cNvSpPr txBox="1"/>
                <p:nvPr/>
              </p:nvSpPr>
              <p:spPr>
                <a:xfrm>
                  <a:off x="2252880" y="1735920"/>
                  <a:ext cx="3860640" cy="104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Text Box 5"/>
            <p:cNvSpPr/>
            <p:nvPr/>
          </p:nvSpPr>
          <p:spPr>
            <a:xfrm>
              <a:off x="1332000" y="3177360"/>
              <a:ext cx="24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非零解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6"/>
                <p:cNvSpPr txBox="1"/>
                <p:nvPr/>
              </p:nvSpPr>
              <p:spPr>
                <a:xfrm>
                  <a:off x="2551320" y="1059480"/>
                  <a:ext cx="279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7" name="Rectangle 7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44240" y="136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927000" y="1085760"/>
                <a:ext cx="37972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4749840" y="1085760"/>
                <a:ext cx="37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1219320" y="2343240"/>
                <a:ext cx="7329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3" name="Object 6"/>
          <p:cNvGraphicFramePr/>
          <p:nvPr/>
        </p:nvGraphicFramePr>
        <p:xfrm>
          <a:off x="1258920" y="2787480"/>
          <a:ext cx="640872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87480"/>
                    <a:ext cx="64087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7"/>
          <p:cNvGrpSpPr/>
          <p:nvPr/>
        </p:nvGrpSpPr>
        <p:grpSpPr>
          <a:xfrm>
            <a:off x="1726200" y="3440160"/>
            <a:ext cx="4214160" cy="520560"/>
            <a:chOff x="1726200" y="3440160"/>
            <a:chExt cx="4214160" cy="520560"/>
          </a:xfrm>
        </p:grpSpPr>
        <p:sp>
          <p:nvSpPr>
            <p:cNvPr id="196" name="Rectangle 8"/>
            <p:cNvSpPr/>
            <p:nvPr/>
          </p:nvSpPr>
          <p:spPr>
            <a:xfrm>
              <a:off x="1726200" y="344016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齐次方程组有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非零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5025960" y="3548160"/>
                  <a:ext cx="9144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10"/>
          <p:cNvGrpSpPr/>
          <p:nvPr/>
        </p:nvGrpSpPr>
        <p:grpSpPr>
          <a:xfrm>
            <a:off x="1701000" y="4068720"/>
            <a:ext cx="6289200" cy="520560"/>
            <a:chOff x="1701000" y="4068720"/>
            <a:chExt cx="6289200" cy="520560"/>
          </a:xfrm>
        </p:grpSpPr>
        <p:sp>
          <p:nvSpPr>
            <p:cNvPr id="199" name="Rectangle 11"/>
            <p:cNvSpPr/>
            <p:nvPr/>
          </p:nvSpPr>
          <p:spPr>
            <a:xfrm>
              <a:off x="1701000" y="4068720"/>
              <a:ext cx="628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以                       或           时齐次方程组有非零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2"/>
                <p:cNvSpPr txBox="1"/>
                <p:nvPr/>
              </p:nvSpPr>
              <p:spPr>
                <a:xfrm>
                  <a:off x="1763640" y="4156560"/>
                  <a:ext cx="1816200" cy="29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3"/>
                <p:cNvSpPr txBox="1"/>
                <p:nvPr/>
              </p:nvSpPr>
              <p:spPr>
                <a:xfrm>
                  <a:off x="4140000" y="4187520"/>
                  <a:ext cx="85104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" name="Rectangle 14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1692360" y="98748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克拉默法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3225240" y="206676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齐次与齐次线性方程组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2195640" y="284148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克拉默法则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5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40920" y="356076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.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齐次线性方程组的相关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0020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消元法解二元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2286000" y="1486080"/>
                <a:ext cx="3517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562720" y="1542960"/>
                <a:ext cx="419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5562720" y="1943280"/>
                <a:ext cx="444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1219320" y="2571840"/>
                <a:ext cx="1295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2971800" y="2571840"/>
                <a:ext cx="3797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1219320" y="3086280"/>
                <a:ext cx="1307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2971800" y="3029040"/>
                <a:ext cx="3809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Rectangle 10"/>
          <p:cNvSpPr/>
          <p:nvPr/>
        </p:nvSpPr>
        <p:spPr>
          <a:xfrm>
            <a:off x="4343400" y="2629080"/>
            <a:ext cx="91440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343400" y="3086280"/>
            <a:ext cx="91440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2"/>
              <p:cNvSpPr txBox="1"/>
              <p:nvPr/>
            </p:nvSpPr>
            <p:spPr>
              <a:xfrm>
                <a:off x="1219320" y="3714840"/>
                <a:ext cx="32763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两式相减消去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，得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390760" y="717480"/>
                <a:ext cx="5346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）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106640" y="1147680"/>
                <a:ext cx="3263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类似地，消去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，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687680" y="1481040"/>
                <a:ext cx="4940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）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1054080" y="1895400"/>
                <a:ext cx="3479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6"/>
          <p:cNvSpPr/>
          <p:nvPr/>
        </p:nvSpPr>
        <p:spPr>
          <a:xfrm>
            <a:off x="4572000" y="179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组的解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054080" y="2219400"/>
                <a:ext cx="3124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4370400" y="2179800"/>
                <a:ext cx="3706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9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1"/>
              <p:cNvSpPr txBox="1"/>
              <p:nvPr/>
            </p:nvSpPr>
            <p:spPr>
              <a:xfrm>
                <a:off x="1525680" y="3086280"/>
                <a:ext cx="190332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2"/>
              <p:cNvSpPr txBox="1"/>
              <p:nvPr/>
            </p:nvSpPr>
            <p:spPr>
              <a:xfrm>
                <a:off x="4724280" y="2971800"/>
                <a:ext cx="190368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3640" y="1330200"/>
                <a:ext cx="538164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3"/>
          <p:cNvSpPr/>
          <p:nvPr/>
        </p:nvSpPr>
        <p:spPr>
          <a:xfrm>
            <a:off x="1415880" y="1762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900000" y="3112920"/>
                <a:ext cx="457200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常数项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不全为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5"/>
          <p:cNvSpPr/>
          <p:nvPr/>
        </p:nvSpPr>
        <p:spPr>
          <a:xfrm>
            <a:off x="6171120" y="308628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称此方程组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186920" y="357984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齐次线性方程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3564000" y="3651120"/>
                <a:ext cx="52862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常数项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全为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8"/>
          <p:cNvSpPr/>
          <p:nvPr/>
        </p:nvSpPr>
        <p:spPr>
          <a:xfrm>
            <a:off x="914400" y="4114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称方程组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齐次线性方程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685440"/>
            <a:ext cx="8064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次与非齐次线性方程组的概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35320" y="4266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克拉默法则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5.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08400" y="119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90720" y="1714680"/>
                <a:ext cx="59767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Text Box 5"/>
          <p:cNvSpPr/>
          <p:nvPr/>
        </p:nvSpPr>
        <p:spPr>
          <a:xfrm>
            <a:off x="1570320" y="35434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系数行列式不等于零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5148360" y="3057480"/>
                <a:ext cx="29588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8172360" y="3700440"/>
                <a:ext cx="5209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Rectangle 8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2035080" y="1500120"/>
                <a:ext cx="616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Group 3"/>
          <p:cNvGrpSpPr/>
          <p:nvPr/>
        </p:nvGrpSpPr>
        <p:grpSpPr>
          <a:xfrm>
            <a:off x="1693800" y="2300400"/>
            <a:ext cx="5680800" cy="947160"/>
            <a:chOff x="1693800" y="2300400"/>
            <a:chExt cx="5680800" cy="947160"/>
          </a:xfrm>
        </p:grpSpPr>
        <p:sp>
          <p:nvSpPr>
            <p:cNvPr id="84" name="Text Box 4"/>
            <p:cNvSpPr/>
            <p:nvPr/>
          </p:nvSpPr>
          <p:spPr>
            <a:xfrm>
              <a:off x="2144880" y="2300400"/>
              <a:ext cx="52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其中     是把系数行列式     中第   列的元素用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组右端的常数项代替后所得到的    阶行列式，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5"/>
                <p:cNvSpPr txBox="1"/>
                <p:nvPr/>
              </p:nvSpPr>
              <p:spPr>
                <a:xfrm>
                  <a:off x="1693800" y="2417040"/>
                  <a:ext cx="430200" cy="37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6" name="Object 6"/>
            <p:cNvGraphicFramePr/>
            <p:nvPr/>
          </p:nvGraphicFramePr>
          <p:xfrm>
            <a:off x="4663800" y="2406240"/>
            <a:ext cx="341640" cy="23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3800" y="2406240"/>
                      <a:ext cx="341640" cy="23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" name="Object 7"/>
                <p:cNvSpPr txBox="1"/>
                <p:nvPr/>
              </p:nvSpPr>
              <p:spPr>
                <a:xfrm>
                  <a:off x="5730840" y="2412360"/>
                  <a:ext cx="2286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Object 8"/>
                <p:cNvSpPr txBox="1"/>
                <p:nvPr/>
              </p:nvSpPr>
              <p:spPr>
                <a:xfrm>
                  <a:off x="5970600" y="2886480"/>
                  <a:ext cx="239760" cy="1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1828800" y="3200400"/>
                <a:ext cx="515628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⋯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⋯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⋯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⋯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" name="Group 10"/>
          <p:cNvGrpSpPr/>
          <p:nvPr/>
        </p:nvGrpSpPr>
        <p:grpSpPr>
          <a:xfrm>
            <a:off x="1030320" y="639720"/>
            <a:ext cx="7081920" cy="520560"/>
            <a:chOff x="1030320" y="639720"/>
            <a:chExt cx="7081920" cy="520560"/>
          </a:xfrm>
        </p:grpSpPr>
        <p:sp>
          <p:nvSpPr>
            <p:cNvPr id="92" name="Rectangle 11"/>
            <p:cNvSpPr/>
            <p:nvPr/>
          </p:nvSpPr>
          <p:spPr>
            <a:xfrm>
              <a:off x="1030320" y="639720"/>
              <a:ext cx="70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那么线性方程组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有解，并且解是唯一的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可以表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12"/>
                <p:cNvSpPr txBox="1"/>
                <p:nvPr/>
              </p:nvSpPr>
              <p:spPr>
                <a:xfrm>
                  <a:off x="3395160" y="639720"/>
                  <a:ext cx="41148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" name="Rectangle 13">
            <a:hlinkClick r:id="rId3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>
            <a:hlinkClick r:id="rId4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45600" y="92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600200" y="2228760"/>
                <a:ext cx="61102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Object 4"/>
          <p:cNvGraphicFramePr/>
          <p:nvPr/>
        </p:nvGraphicFramePr>
        <p:xfrm>
          <a:off x="1101600" y="1006560"/>
          <a:ext cx="783756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006560"/>
                    <a:ext cx="78375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Group 5"/>
          <p:cNvGrpSpPr/>
          <p:nvPr/>
        </p:nvGrpSpPr>
        <p:grpSpPr>
          <a:xfrm>
            <a:off x="1681920" y="3905280"/>
            <a:ext cx="2992680" cy="520560"/>
            <a:chOff x="1681920" y="3905280"/>
            <a:chExt cx="2992680" cy="520560"/>
          </a:xfrm>
        </p:grpSpPr>
        <p:sp>
          <p:nvSpPr>
            <p:cNvPr id="101" name="Text Box 6"/>
            <p:cNvSpPr/>
            <p:nvPr/>
          </p:nvSpPr>
          <p:spPr>
            <a:xfrm>
              <a:off x="1681920" y="3905280"/>
              <a:ext cx="299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再把     个方程依次相加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7"/>
                <p:cNvSpPr txBox="1"/>
                <p:nvPr/>
              </p:nvSpPr>
              <p:spPr>
                <a:xfrm>
                  <a:off x="1814400" y="4116960"/>
                  <a:ext cx="239400" cy="1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Rectangle 8">
            <a:hlinkClick r:id="rId3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>
            <a:hlinkClick r:id="rId4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246400" y="419040"/>
                <a:ext cx="538164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Text Box 3"/>
          <p:cNvSpPr/>
          <p:nvPr/>
        </p:nvSpPr>
        <p:spPr>
          <a:xfrm>
            <a:off x="1608120" y="201132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代数余子式的性质可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343240" y="3214800"/>
                <a:ext cx="3467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914400" y="4208400"/>
                <a:ext cx="616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5029200" y="2068560"/>
                <a:ext cx="36464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上式中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系数等于</m:t>
                    </m:r>
                    <m:r>
                      <m:t xml:space="preserve">D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914400" y="2685960"/>
                <a:ext cx="4449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其余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的系数均为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5486400" y="2685960"/>
                <a:ext cx="2666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又等式右端为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9"/>
          <p:cNvSpPr/>
          <p:nvPr/>
        </p:nvSpPr>
        <p:spPr>
          <a:xfrm>
            <a:off x="9874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7620120" y="3205080"/>
                <a:ext cx="444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4" name="Group 11"/>
          <p:cNvGrpSpPr/>
          <p:nvPr/>
        </p:nvGrpSpPr>
        <p:grpSpPr>
          <a:xfrm>
            <a:off x="1295280" y="3659040"/>
            <a:ext cx="4506120" cy="520560"/>
            <a:chOff x="1295280" y="3659040"/>
            <a:chExt cx="4506120" cy="520560"/>
          </a:xfrm>
        </p:grpSpPr>
        <p:sp>
          <p:nvSpPr>
            <p:cNvPr id="115" name="Rectangle 12"/>
            <p:cNvSpPr/>
            <p:nvPr/>
          </p:nvSpPr>
          <p:spPr>
            <a:xfrm>
              <a:off x="2004120" y="3659040"/>
              <a:ext cx="37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           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程组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有唯一的一个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13"/>
                <p:cNvSpPr txBox="1"/>
                <p:nvPr/>
              </p:nvSpPr>
              <p:spPr>
                <a:xfrm>
                  <a:off x="1295280" y="3773160"/>
                  <a:ext cx="914400" cy="31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4"/>
                <p:cNvSpPr txBox="1"/>
                <p:nvPr/>
              </p:nvSpPr>
              <p:spPr>
                <a:xfrm>
                  <a:off x="3809880" y="3778920"/>
                  <a:ext cx="4446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Rectangle 15">
            <a:hlinkClick r:id="rId1"/>
          </p:cNvPr>
          <p:cNvSpPr/>
          <p:nvPr/>
        </p:nvSpPr>
        <p:spPr>
          <a:xfrm>
            <a:off x="7769160" y="492120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>
            <a:hlinkClick r:id="rId2"/>
          </p:cNvPr>
          <p:cNvSpPr/>
          <p:nvPr/>
        </p:nvSpPr>
        <p:spPr>
          <a:xfrm>
            <a:off x="6781680" y="491652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4:39:56Z</dcterms:created>
  <dc:creator/>
  <dc:description/>
  <cp:keywords/>
  <dc:language>en-US</dc:language>
  <cp:lastModifiedBy>lisiyan</cp:lastModifiedBy>
  <dcterms:modified xsi:type="dcterms:W3CDTF">2017-06-06T14:01:3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