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3.png" ContentType="image/png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392120" cy="395280"/>
          </a:xfrm>
          <a:prstGeom prst="rect">
            <a:avLst/>
          </a:prstGeom>
          <a:ln w="0">
            <a:noFill/>
          </a:ln>
        </p:spPr>
      </p:pic>
      <p:pic>
        <p:nvPicPr>
          <p:cNvPr id="1" name="矩形 6" descr=""/>
          <p:cNvPicPr/>
          <p:nvPr/>
        </p:nvPicPr>
        <p:blipFill>
          <a:blip r:embed="rId4"/>
          <a:stretch/>
        </p:blipFill>
        <p:spPr>
          <a:xfrm>
            <a:off x="5456160" y="4730760"/>
            <a:ext cx="37432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file:///&#32447;&#24615;&#20195;&#25968;&#30005;&#23376;&#25945;&#26696;/&#20027;&#30028;&#38754;.PPT" TargetMode="External"/><Relationship Id="rId4" Type="http://schemas.openxmlformats.org/officeDocument/2006/relationships/hyperlink" Target="file:///&#32447;&#24615;&#20195;&#25968;&#30005;&#23376;&#25945;&#26696;/&#20027;&#30028;&#38754;.PPT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hyperlink" Target="file:///&#32447;&#24615;&#20195;&#25968;&#30005;&#23376;&#25945;&#26696;/&#20027;&#30028;&#38754;.PPT" TargetMode="External"/><Relationship Id="rId6" Type="http://schemas.openxmlformats.org/officeDocument/2006/relationships/hyperlink" Target="file:///&#32447;&#24615;&#20195;&#25968;&#30005;&#23376;&#25945;&#26696;/&#20027;&#30028;&#38754;.PPT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file:///&#32447;&#24615;&#20195;&#25968;&#30005;&#23376;&#25945;&#26696;/&#20027;&#30028;&#38754;.PPT" TargetMode="External"/><Relationship Id="rId4" Type="http://schemas.openxmlformats.org/officeDocument/2006/relationships/hyperlink" Target="file:///&#32447;&#24615;&#20195;&#25968;&#30005;&#23376;&#25945;&#26696;/&#20027;&#30028;&#38754;.PPT" TargetMode="External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file:///&#32447;&#24615;&#20195;&#25968;&#30005;&#23376;&#25945;&#26696;/&#20027;&#30028;&#38754;.PPT" TargetMode="External"/><Relationship Id="rId6" Type="http://schemas.openxmlformats.org/officeDocument/2006/relationships/hyperlink" Target="file:///&#32447;&#24615;&#20195;&#25968;&#30005;&#23376;&#25945;&#26696;/&#20027;&#30028;&#38754;.PPT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684360" y="1168560"/>
            <a:ext cx="7772400" cy="17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线性代数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1492200" y="628560"/>
                <a:ext cx="5931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1752480" y="2657520"/>
                <a:ext cx="56772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3276720" y="2685960"/>
                <a:ext cx="355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6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1219320" y="2844720"/>
                <a:ext cx="401292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6" name="Group 3"/>
          <p:cNvGrpSpPr/>
          <p:nvPr/>
        </p:nvGrpSpPr>
        <p:grpSpPr>
          <a:xfrm>
            <a:off x="5735160" y="3571920"/>
            <a:ext cx="2194200" cy="520560"/>
            <a:chOff x="5735160" y="3571920"/>
            <a:chExt cx="2194200" cy="520560"/>
          </a:xfrm>
        </p:grpSpPr>
        <p:sp>
          <p:nvSpPr>
            <p:cNvPr id="157" name="Text Box 4"/>
            <p:cNvSpPr/>
            <p:nvPr/>
          </p:nvSpPr>
          <p:spPr>
            <a:xfrm>
              <a:off x="5735160" y="35719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的余子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5"/>
                <p:cNvSpPr txBox="1"/>
                <p:nvPr/>
              </p:nvSpPr>
              <p:spPr>
                <a:xfrm>
                  <a:off x="7277040" y="3642120"/>
                  <a:ext cx="65232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Group 6"/>
          <p:cNvGrpSpPr/>
          <p:nvPr/>
        </p:nvGrpSpPr>
        <p:grpSpPr>
          <a:xfrm>
            <a:off x="900000" y="357120"/>
            <a:ext cx="7696080" cy="2343240"/>
            <a:chOff x="900000" y="357120"/>
            <a:chExt cx="7696080" cy="2343240"/>
          </a:xfrm>
        </p:grpSpPr>
        <mc:AlternateContent>
          <mc:Choice xmlns:a14="http://schemas.microsoft.com/office/drawing/2010/main" Requires="a14">
            <p:sp>
              <p:nvSpPr>
                <p:cNvPr id="160" name="Object 7"/>
                <p:cNvSpPr txBox="1"/>
                <p:nvPr/>
              </p:nvSpPr>
              <p:spPr>
                <a:xfrm>
                  <a:off x="900000" y="357120"/>
                  <a:ext cx="7696080" cy="234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元素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在行列式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/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/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/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/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j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中的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余子式仍然是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在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Object 8"/>
                <p:cNvSpPr txBox="1"/>
                <p:nvPr/>
              </p:nvSpPr>
              <p:spPr>
                <a:xfrm>
                  <a:off x="3643200" y="357120"/>
                  <a:ext cx="355680" cy="35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3352680" y="3673440"/>
                <a:ext cx="355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Rectangle 10">
            <a:hlinkClick r:id="rId1"/>
          </p:cNvPr>
          <p:cNvSpPr/>
          <p:nvPr/>
        </p:nvSpPr>
        <p:spPr>
          <a:xfrm>
            <a:off x="7769160" y="499284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>
            <a:hlinkClick r:id="rId2"/>
          </p:cNvPr>
          <p:cNvSpPr/>
          <p:nvPr/>
        </p:nvSpPr>
        <p:spPr>
          <a:xfrm>
            <a:off x="6781680" y="4987800"/>
            <a:ext cx="6858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928800" y="2428920"/>
            <a:ext cx="15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857160" y="2643120"/>
                <a:ext cx="586764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6781680" y="3371760"/>
                <a:ext cx="2057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8" name="Group 5"/>
          <p:cNvGrpSpPr/>
          <p:nvPr/>
        </p:nvGrpSpPr>
        <p:grpSpPr>
          <a:xfrm>
            <a:off x="1137240" y="514440"/>
            <a:ext cx="6749640" cy="1971720"/>
            <a:chOff x="1137240" y="514440"/>
            <a:chExt cx="6749640" cy="1971720"/>
          </a:xfrm>
        </p:grpSpPr>
        <p:sp>
          <p:nvSpPr>
            <p:cNvPr id="169" name="Text Box 6"/>
            <p:cNvSpPr/>
            <p:nvPr/>
          </p:nvSpPr>
          <p:spPr>
            <a:xfrm>
              <a:off x="1137240" y="1257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于是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7"/>
                <p:cNvSpPr txBox="1"/>
                <p:nvPr/>
              </p:nvSpPr>
              <p:spPr>
                <a:xfrm>
                  <a:off x="2286000" y="514440"/>
                  <a:ext cx="4368960" cy="197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j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8"/>
                <p:cNvSpPr txBox="1"/>
                <p:nvPr/>
              </p:nvSpPr>
              <p:spPr>
                <a:xfrm>
                  <a:off x="6629400" y="1314360"/>
                  <a:ext cx="12574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Rectangle 11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7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00000" y="1020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列式等于它的任一行（列）的各元素与其对应的代数余子式乘积之和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1042920" y="1978200"/>
                <a:ext cx="46990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6084720" y="2031840"/>
                <a:ext cx="1981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Text Box 5"/>
          <p:cNvSpPr/>
          <p:nvPr/>
        </p:nvSpPr>
        <p:spPr>
          <a:xfrm>
            <a:off x="990360" y="24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1187280" y="2571840"/>
                <a:ext cx="7320240" cy="18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⋯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4400" y="436680"/>
            <a:ext cx="5745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行列式按行（列）展开法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054160" y="752400"/>
                <a:ext cx="260028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4748040" y="752400"/>
                <a:ext cx="259092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233360" y="2639880"/>
                <a:ext cx="314028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3413160"/>
                <a:ext cx="4013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357880" y="3857760"/>
                <a:ext cx="19810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Rectangle 7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895320" y="69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列式任一行（列）的元素与另一行（列）的对应元素的代数余子式乘积之和等于零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928880" y="1647720"/>
                <a:ext cx="5945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928880" y="2546280"/>
                <a:ext cx="4800600" cy="21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5"/>
          <p:cNvSpPr/>
          <p:nvPr/>
        </p:nvSpPr>
        <p:spPr>
          <a:xfrm>
            <a:off x="1064880" y="2017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6"/>
          <p:cNvGraphicFramePr/>
          <p:nvPr/>
        </p:nvGraphicFramePr>
        <p:xfrm>
          <a:off x="1792440" y="2017800"/>
          <a:ext cx="59767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440" y="2017800"/>
                    <a:ext cx="59767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7">
            <a:hlinkClick r:id="rId3"/>
          </p:cNvPr>
          <p:cNvSpPr/>
          <p:nvPr/>
        </p:nvSpPr>
        <p:spPr>
          <a:xfrm>
            <a:off x="7769160" y="492120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>
            <a:hlinkClick r:id="rId4"/>
          </p:cNvPr>
          <p:cNvSpPr/>
          <p:nvPr/>
        </p:nvSpPr>
        <p:spPr>
          <a:xfrm>
            <a:off x="6781680" y="491652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268280" y="1143000"/>
                <a:ext cx="4732560" cy="21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187280" y="681120"/>
                <a:ext cx="4940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把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换成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可得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Group 4"/>
          <p:cNvGrpSpPr/>
          <p:nvPr/>
        </p:nvGrpSpPr>
        <p:grpSpPr>
          <a:xfrm>
            <a:off x="6400800" y="2343240"/>
            <a:ext cx="1143000" cy="342720"/>
            <a:chOff x="6400800" y="2343240"/>
            <a:chExt cx="1143000" cy="342720"/>
          </a:xfrm>
        </p:grpSpPr>
        <mc:AlternateContent>
          <mc:Choice xmlns:a14="http://schemas.microsoft.com/office/drawing/2010/main" Requires="a14">
            <p:sp>
              <p:nvSpPr>
                <p:cNvPr id="200" name="Object 5"/>
                <p:cNvSpPr txBox="1"/>
                <p:nvPr/>
              </p:nvSpPr>
              <p:spPr>
                <a:xfrm>
                  <a:off x="6527880" y="2408760"/>
                  <a:ext cx="879480" cy="26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第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AutoShape 6"/>
            <p:cNvSpPr/>
            <p:nvPr/>
          </p:nvSpPr>
          <p:spPr>
            <a:xfrm>
              <a:off x="6400800" y="2343240"/>
              <a:ext cx="1143000" cy="342720"/>
            </a:xfrm>
            <a:prstGeom prst="wedgeRoundRectCallout">
              <a:avLst>
                <a:gd name="adj1" fmla="val -101944"/>
                <a:gd name="adj2" fmla="val 15625"/>
                <a:gd name="adj3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6400800" y="1714680"/>
            <a:ext cx="1143000" cy="342720"/>
            <a:chOff x="6400800" y="1714680"/>
            <a:chExt cx="1143000" cy="342720"/>
          </a:xfrm>
        </p:grpSpPr>
        <mc:AlternateContent>
          <mc:Choice xmlns:a14="http://schemas.microsoft.com/office/drawing/2010/main" Requires="a14">
            <p:sp>
              <p:nvSpPr>
                <p:cNvPr id="203" name="Object 8"/>
                <p:cNvSpPr txBox="1"/>
                <p:nvPr/>
              </p:nvSpPr>
              <p:spPr>
                <a:xfrm>
                  <a:off x="6629400" y="1780200"/>
                  <a:ext cx="838080" cy="26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第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t xml:space="preserve">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AutoShape 9"/>
            <p:cNvSpPr/>
            <p:nvPr/>
          </p:nvSpPr>
          <p:spPr>
            <a:xfrm>
              <a:off x="6400800" y="1714680"/>
              <a:ext cx="1143000" cy="342720"/>
            </a:xfrm>
            <a:prstGeom prst="wedgeRoundRectCallout">
              <a:avLst>
                <a:gd name="adj1" fmla="val -101944"/>
                <a:gd name="adj2" fmla="val 15625"/>
                <a:gd name="adj3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1214280" y="3143160"/>
                <a:ext cx="1638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1571760" y="3500280"/>
                <a:ext cx="6400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2"/>
          <p:cNvSpPr/>
          <p:nvPr/>
        </p:nvSpPr>
        <p:spPr>
          <a:xfrm>
            <a:off x="1149480" y="3929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071800" y="4000680"/>
                <a:ext cx="5827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7543800" y="1886040"/>
            <a:ext cx="909000" cy="577440"/>
            <a:chOff x="7543800" y="1886040"/>
            <a:chExt cx="909000" cy="577440"/>
          </a:xfrm>
        </p:grpSpPr>
        <p:grpSp>
          <p:nvGrpSpPr>
            <p:cNvPr id="210" name="Group 15"/>
            <p:cNvGrpSpPr/>
            <p:nvPr/>
          </p:nvGrpSpPr>
          <p:grpSpPr>
            <a:xfrm>
              <a:off x="7543800" y="1886040"/>
              <a:ext cx="228600" cy="570240"/>
              <a:chOff x="7543800" y="1886040"/>
              <a:chExt cx="228600" cy="570240"/>
            </a:xfrm>
          </p:grpSpPr>
          <p:sp>
            <p:nvSpPr>
              <p:cNvPr id="211" name="Line 16"/>
              <p:cNvSpPr/>
              <p:nvPr/>
            </p:nvSpPr>
            <p:spPr>
              <a:xfrm>
                <a:off x="7543800" y="1886040"/>
                <a:ext cx="228600" cy="285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7"/>
              <p:cNvSpPr/>
              <p:nvPr/>
            </p:nvSpPr>
            <p:spPr>
              <a:xfrm flipV="1">
                <a:off x="7543800" y="2113920"/>
                <a:ext cx="228600" cy="342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Text Box 18"/>
            <p:cNvSpPr/>
            <p:nvPr/>
          </p:nvSpPr>
          <p:spPr>
            <a:xfrm>
              <a:off x="7845480" y="1942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Line 19"/>
          <p:cNvSpPr/>
          <p:nvPr/>
        </p:nvSpPr>
        <p:spPr>
          <a:xfrm>
            <a:off x="4191120" y="2685960"/>
            <a:ext cx="1600200" cy="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1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758320" y="6904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代数余子式的重要结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1785960" y="1406520"/>
          <a:ext cx="4483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1406520"/>
                    <a:ext cx="4483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1663560" y="2343240"/>
          <a:ext cx="453420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2343240"/>
                    <a:ext cx="45342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Object 5"/>
              <p:cNvSpPr txBox="1"/>
              <p:nvPr/>
            </p:nvSpPr>
            <p:spPr>
              <a:xfrm>
                <a:off x="1785960" y="3286080"/>
                <a:ext cx="3581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当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j</m:t>
                              </m:r>
                              <m:r>
                                <m:t xml:space="preserve">，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当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≠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Rectangle 6">
            <a:hlinkClick r:id="rId5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>
            <a:hlinkClick r:id="rId6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2567880" y="1622520"/>
            <a:ext cx="4257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3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3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4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4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95360" y="2022480"/>
            <a:ext cx="8686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其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3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4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952280" y="444600"/>
            <a:ext cx="5240160" cy="942840"/>
            <a:chOff x="1952280" y="444600"/>
            <a:chExt cx="5240160" cy="942840"/>
          </a:xfrm>
        </p:grpSpPr>
        <p:sp>
          <p:nvSpPr>
            <p:cNvPr id="228" name="Text Box 5"/>
            <p:cNvSpPr/>
            <p:nvPr/>
          </p:nvSpPr>
          <p:spPr>
            <a:xfrm>
              <a:off x="1952280" y="658800"/>
              <a:ext cx="25257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</a:t>
              </a:r>
              <a:r>
                <a:rPr b="1" lang="zh-CN" sz="26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例</a:t>
              </a:r>
              <a:r>
                <a:rPr b="1" lang="en-US" sz="26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计算行列式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Picture 6" descr=""/>
            <p:cNvPicPr/>
            <p:nvPr/>
          </p:nvPicPr>
          <p:blipFill>
            <a:blip r:embed="rId1"/>
            <a:srcRect l="0" t="13342" r="77982" b="13342"/>
            <a:stretch/>
          </p:blipFill>
          <p:spPr>
            <a:xfrm>
              <a:off x="4721040" y="444600"/>
              <a:ext cx="247140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7"/>
          <p:cNvSpPr/>
          <p:nvPr/>
        </p:nvSpPr>
        <p:spPr>
          <a:xfrm>
            <a:off x="431640" y="1228680"/>
            <a:ext cx="41148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将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按第三列展开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04920" y="1228680"/>
            <a:ext cx="1046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4572000" y="444600"/>
            <a:ext cx="457200" cy="3682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063440" y="4000680"/>
            <a:ext cx="3970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641640" y="4071960"/>
            <a:ext cx="869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4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1687320" y="4071960"/>
            <a:ext cx="51948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9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3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13" descr=""/>
          <p:cNvPicPr/>
          <p:nvPr/>
        </p:nvPicPr>
        <p:blipFill>
          <a:blip r:embed="rId2"/>
          <a:srcRect l="0" t="0" r="69777" b="0"/>
          <a:stretch/>
        </p:blipFill>
        <p:spPr>
          <a:xfrm>
            <a:off x="1155600" y="2408400"/>
            <a:ext cx="3390840" cy="965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3"/>
          <a:srcRect l="0" t="0" r="71000" b="0"/>
          <a:stretch/>
        </p:blipFill>
        <p:spPr>
          <a:xfrm>
            <a:off x="1089000" y="3193920"/>
            <a:ext cx="3254400" cy="965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4"/>
          <a:srcRect l="30230" t="0" r="36949" b="0"/>
          <a:stretch/>
        </p:blipFill>
        <p:spPr>
          <a:xfrm>
            <a:off x="4572000" y="2365200"/>
            <a:ext cx="3683160" cy="965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5"/>
          <a:srcRect l="28896" t="0" r="39964" b="0"/>
          <a:stretch/>
        </p:blipFill>
        <p:spPr>
          <a:xfrm>
            <a:off x="4546440" y="3193920"/>
            <a:ext cx="3494160" cy="965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7"/>
          <p:cNvSpPr/>
          <p:nvPr/>
        </p:nvSpPr>
        <p:spPr>
          <a:xfrm>
            <a:off x="4476240" y="1228680"/>
            <a:ext cx="567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应有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116240" y="571680"/>
                <a:ext cx="355608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275480" y="132084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行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360" y="337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828800" y="2638440"/>
                <a:ext cx="355608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Line 6"/>
          <p:cNvSpPr/>
          <p:nvPr/>
        </p:nvSpPr>
        <p:spPr>
          <a:xfrm>
            <a:off x="2266920" y="3200400"/>
            <a:ext cx="3352680" cy="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219640" y="2517840"/>
            <a:ext cx="19080" cy="228600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9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2957400" y="91584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节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行列式的展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2547720" y="2085840"/>
            <a:ext cx="339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余子式与代数余子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行列式展开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定理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914400" y="2685960"/>
                <a:ext cx="276876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733920" y="2857680"/>
                <a:ext cx="2882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1295280" y="4114800"/>
                <a:ext cx="3645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6019920" y="971640"/>
                <a:ext cx="26287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914400" y="743040"/>
                <a:ext cx="37339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Line 7"/>
          <p:cNvSpPr/>
          <p:nvPr/>
        </p:nvSpPr>
        <p:spPr>
          <a:xfrm>
            <a:off x="2203560" y="914400"/>
            <a:ext cx="2666880" cy="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2514600" y="628560"/>
            <a:ext cx="6480" cy="165744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5076720" y="1544760"/>
            <a:ext cx="719280" cy="54000"/>
            <a:chOff x="5076720" y="1544760"/>
            <a:chExt cx="719280" cy="54000"/>
          </a:xfrm>
        </p:grpSpPr>
        <p:sp>
          <p:nvSpPr>
            <p:cNvPr id="257" name="Line 10"/>
            <p:cNvSpPr/>
            <p:nvPr/>
          </p:nvSpPr>
          <p:spPr>
            <a:xfrm>
              <a:off x="5076720" y="15447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5076720" y="15987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Line 12"/>
          <p:cNvSpPr/>
          <p:nvPr/>
        </p:nvSpPr>
        <p:spPr>
          <a:xfrm>
            <a:off x="1523880" y="2857680"/>
            <a:ext cx="2286000" cy="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2057400" y="2685960"/>
            <a:ext cx="0" cy="114300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2"/>
          <p:cNvGraphicFramePr/>
          <p:nvPr/>
        </p:nvGraphicFramePr>
        <p:xfrm>
          <a:off x="3419640" y="298440"/>
          <a:ext cx="51130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98440"/>
                    <a:ext cx="5113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3"/>
          <p:cNvGraphicFramePr/>
          <p:nvPr/>
        </p:nvGraphicFramePr>
        <p:xfrm>
          <a:off x="250920" y="2787480"/>
          <a:ext cx="8532720" cy="16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787480"/>
                    <a:ext cx="8532720" cy="16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4"/>
          <p:cNvGraphicFramePr/>
          <p:nvPr/>
        </p:nvGraphicFramePr>
        <p:xfrm>
          <a:off x="684360" y="4462560"/>
          <a:ext cx="194292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462560"/>
                    <a:ext cx="19429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5"/>
          <p:cNvSpPr/>
          <p:nvPr/>
        </p:nvSpPr>
        <p:spPr>
          <a:xfrm>
            <a:off x="1031400" y="2194560"/>
            <a:ext cx="158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第一列展开，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3787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-367200" y="1212840"/>
            <a:ext cx="3287520" cy="845280"/>
            <a:chOff x="-367200" y="1212840"/>
            <a:chExt cx="3287520" cy="845280"/>
          </a:xfrm>
        </p:grpSpPr>
        <p:sp>
          <p:nvSpPr>
            <p:cNvPr id="272" name="Rectangle 8"/>
            <p:cNvSpPr/>
            <p:nvPr/>
          </p:nvSpPr>
          <p:spPr>
            <a:xfrm>
              <a:off x="-367200" y="1212840"/>
              <a:ext cx="21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计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9"/>
            <p:cNvGrpSpPr/>
            <p:nvPr/>
          </p:nvGrpSpPr>
          <p:grpSpPr>
            <a:xfrm>
              <a:off x="1766520" y="1232640"/>
              <a:ext cx="1153800" cy="825480"/>
              <a:chOff x="1766520" y="1232640"/>
              <a:chExt cx="1153800" cy="825480"/>
            </a:xfrm>
          </p:grpSpPr>
          <p:graphicFrame>
            <p:nvGraphicFramePr>
              <p:cNvPr id="274" name="Object 10"/>
              <p:cNvGraphicFramePr/>
              <p:nvPr/>
            </p:nvGraphicFramePr>
            <p:xfrm>
              <a:off x="1766520" y="1413000"/>
              <a:ext cx="250920" cy="2167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5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66520" y="1413000"/>
                        <a:ext cx="250920" cy="21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6" name="Rectangle 11"/>
              <p:cNvSpPr/>
              <p:nvPr/>
            </p:nvSpPr>
            <p:spPr>
              <a:xfrm>
                <a:off x="2008080" y="1232640"/>
                <a:ext cx="91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阶行列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2"/>
          <p:cNvGraphicFramePr/>
          <p:nvPr/>
        </p:nvGraphicFramePr>
        <p:xfrm>
          <a:off x="2732040" y="716040"/>
          <a:ext cx="34956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2040" y="716040"/>
                    <a:ext cx="34956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"/>
          <p:cNvGraphicFramePr/>
          <p:nvPr/>
        </p:nvGraphicFramePr>
        <p:xfrm>
          <a:off x="1770120" y="1135080"/>
          <a:ext cx="229716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0120" y="1135080"/>
                    <a:ext cx="2297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2268360" y="1546200"/>
          <a:ext cx="31816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1546200"/>
                    <a:ext cx="31816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5"/>
          <p:cNvGraphicFramePr/>
          <p:nvPr/>
        </p:nvGraphicFramePr>
        <p:xfrm>
          <a:off x="2195640" y="1924200"/>
          <a:ext cx="3039840" cy="42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1924200"/>
                    <a:ext cx="30398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2195640" y="2301840"/>
          <a:ext cx="709560" cy="20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301840"/>
                    <a:ext cx="70956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2195640" y="2571840"/>
          <a:ext cx="4824360" cy="42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2571840"/>
                    <a:ext cx="4824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1763640" y="3003480"/>
          <a:ext cx="16257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3003480"/>
                    <a:ext cx="16257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9"/>
          <p:cNvGraphicFramePr/>
          <p:nvPr/>
        </p:nvGraphicFramePr>
        <p:xfrm>
          <a:off x="1692360" y="3706920"/>
          <a:ext cx="6048360" cy="441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92360" y="3706920"/>
                    <a:ext cx="6048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0"/>
          <p:cNvSpPr/>
          <p:nvPr/>
        </p:nvSpPr>
        <p:spPr>
          <a:xfrm>
            <a:off x="1332000" y="6818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对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6572880" y="718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成立，因此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812520" y="32774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914400" y="2955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752480" y="29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数学归纳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338120" y="3422520"/>
                <a:ext cx="25657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4005360" y="3656160"/>
                <a:ext cx="13842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5549760" y="3639960"/>
                <a:ext cx="2222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2</m:t>
                        </m:r>
                        <m:r>
                          <m:t xml:space="preserve">≥</m:t>
                        </m:r>
                        <m:r>
                          <m:t xml:space="preserve">i</m:t>
                        </m:r>
                        <m:r>
                          <m:t xml:space="preserve">&gt;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1301760" y="4259160"/>
                <a:ext cx="4191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时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）式成立．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2" name="Group 8"/>
          <p:cNvGrpSpPr/>
          <p:nvPr/>
        </p:nvGrpSpPr>
        <p:grpSpPr>
          <a:xfrm>
            <a:off x="914400" y="639720"/>
            <a:ext cx="7540560" cy="2331720"/>
            <a:chOff x="914400" y="639720"/>
            <a:chExt cx="7540560" cy="2331720"/>
          </a:xfrm>
        </p:grpSpPr>
        <p:sp>
          <p:nvSpPr>
            <p:cNvPr id="303" name="Text Box 9"/>
            <p:cNvSpPr/>
            <p:nvPr/>
          </p:nvSpPr>
          <p:spPr>
            <a:xfrm>
              <a:off x="914400" y="639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1905120" y="639720"/>
              <a:ext cx="61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证明范德蒙德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Vandermonde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行列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11"/>
                <p:cNvSpPr txBox="1"/>
                <p:nvPr/>
              </p:nvSpPr>
              <p:spPr>
                <a:xfrm>
                  <a:off x="1492200" y="1163160"/>
                  <a:ext cx="6159600" cy="18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∏"/>
                          <m:supHide m:val="1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t xml:space="preserve">i</m:t>
                          </m:r>
                          <m:r>
                            <m:t xml:space="preserve">&gt;</m:t>
                          </m:r>
                          <m:r>
                            <m:t xml:space="preserve">j</m:t>
                          </m:r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</m:sub>
                        <m:sup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Object 12"/>
                <p:cNvSpPr txBox="1"/>
                <p:nvPr/>
              </p:nvSpPr>
              <p:spPr>
                <a:xfrm>
                  <a:off x="8035920" y="1917000"/>
                  <a:ext cx="419040" cy="29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7" name="Rectangle 13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046160" y="755640"/>
                <a:ext cx="6723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假设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）对于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阶范德蒙德行列式成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914400" y="1257480"/>
                <a:ext cx="770724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927000" y="3772080"/>
                <a:ext cx="7683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按第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列展开，并把每列的公因子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提出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就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5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914400" y="2971800"/>
                <a:ext cx="7259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i</m:t>
                        </m:r>
                        <m:r>
                          <m:t xml:space="preserve">&gt;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57400" y="3772080"/>
                <a:ext cx="2224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i</m:t>
                        </m:r>
                        <m:r>
                          <m:t xml:space="preserve">&gt;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914400" y="800280"/>
                <a:ext cx="752940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AutoShape 5"/>
          <p:cNvSpPr/>
          <p:nvPr/>
        </p:nvSpPr>
        <p:spPr>
          <a:xfrm>
            <a:off x="914400" y="2171880"/>
            <a:ext cx="4114800" cy="457200"/>
          </a:xfrm>
          <a:prstGeom prst="wedgeRoundRectCallout">
            <a:avLst>
              <a:gd name="adj1" fmla="val 59874"/>
              <a:gd name="adj2" fmla="val -113541"/>
              <a:gd name="adj3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阶范德蒙德行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Object 2"/>
          <p:cNvGraphicFramePr/>
          <p:nvPr/>
        </p:nvGraphicFramePr>
        <p:xfrm>
          <a:off x="2060640" y="1222200"/>
          <a:ext cx="5111640" cy="17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1222200"/>
                    <a:ext cx="51116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2" name="Group 3"/>
          <p:cNvGrpSpPr/>
          <p:nvPr/>
        </p:nvGrpSpPr>
        <p:grpSpPr>
          <a:xfrm>
            <a:off x="747000" y="2998800"/>
            <a:ext cx="6726960" cy="1155960"/>
            <a:chOff x="747000" y="2998800"/>
            <a:chExt cx="6726960" cy="1155960"/>
          </a:xfrm>
        </p:grpSpPr>
        <p:graphicFrame>
          <p:nvGraphicFramePr>
            <p:cNvPr id="323" name="Object 4"/>
            <p:cNvGraphicFramePr/>
            <p:nvPr/>
          </p:nvGraphicFramePr>
          <p:xfrm>
            <a:off x="3203640" y="3052080"/>
            <a:ext cx="458640" cy="48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3640" y="3052080"/>
                      <a:ext cx="458640" cy="48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5"/>
            <p:cNvGraphicFramePr/>
            <p:nvPr/>
          </p:nvGraphicFramePr>
          <p:xfrm>
            <a:off x="6948360" y="2998800"/>
            <a:ext cx="525600" cy="5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2998800"/>
                      <a:ext cx="5256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6"/>
            <p:cNvGraphicFramePr/>
            <p:nvPr/>
          </p:nvGraphicFramePr>
          <p:xfrm>
            <a:off x="3276720" y="3484440"/>
            <a:ext cx="718920" cy="312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8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76720" y="3484440"/>
                      <a:ext cx="718920" cy="31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7"/>
            <p:cNvGraphicFramePr/>
            <p:nvPr/>
          </p:nvGraphicFramePr>
          <p:xfrm>
            <a:off x="4788000" y="3429720"/>
            <a:ext cx="792000" cy="352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0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8000" y="3429720"/>
                      <a:ext cx="7920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8"/>
            <p:cNvGraphicFramePr/>
            <p:nvPr/>
          </p:nvGraphicFramePr>
          <p:xfrm>
            <a:off x="6372360" y="3376080"/>
            <a:ext cx="581040" cy="539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2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72360" y="3376080"/>
                      <a:ext cx="5810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Rectangle 9"/>
            <p:cNvSpPr/>
            <p:nvPr/>
          </p:nvSpPr>
          <p:spPr>
            <a:xfrm>
              <a:off x="747000" y="3047400"/>
              <a:ext cx="22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[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答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]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二列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0"/>
            <p:cNvSpPr/>
            <p:nvPr/>
          </p:nvSpPr>
          <p:spPr>
            <a:xfrm>
              <a:off x="4865760" y="30474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倍加至第一列，第三列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1"/>
            <p:cNvSpPr/>
            <p:nvPr/>
          </p:nvSpPr>
          <p:spPr>
            <a:xfrm>
              <a:off x="1740600" y="337140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倍加至第一列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2"/>
            <p:cNvSpPr/>
            <p:nvPr/>
          </p:nvSpPr>
          <p:spPr>
            <a:xfrm>
              <a:off x="3907440" y="3371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3"/>
            <p:cNvSpPr/>
            <p:nvPr/>
          </p:nvSpPr>
          <p:spPr>
            <a:xfrm>
              <a:off x="5459400" y="337140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列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4"/>
            <p:cNvSpPr/>
            <p:nvPr/>
          </p:nvSpPr>
          <p:spPr>
            <a:xfrm>
              <a:off x="3998160" y="3695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倍加至第一列，原行列式可变为上三角形行列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5"/>
          <p:cNvGrpSpPr/>
          <p:nvPr/>
        </p:nvGrpSpPr>
        <p:grpSpPr>
          <a:xfrm>
            <a:off x="1662120" y="651240"/>
            <a:ext cx="3643560" cy="947160"/>
            <a:chOff x="1662120" y="651240"/>
            <a:chExt cx="3643560" cy="947160"/>
          </a:xfrm>
        </p:grpSpPr>
        <p:sp>
          <p:nvSpPr>
            <p:cNvPr id="340" name="Rectangle 16"/>
            <p:cNvSpPr/>
            <p:nvPr/>
          </p:nvSpPr>
          <p:spPr>
            <a:xfrm>
              <a:off x="1662120" y="689400"/>
              <a:ext cx="173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计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Group 17"/>
            <p:cNvGrpSpPr/>
            <p:nvPr/>
          </p:nvGrpSpPr>
          <p:grpSpPr>
            <a:xfrm>
              <a:off x="3480120" y="651240"/>
              <a:ext cx="1825560" cy="947160"/>
              <a:chOff x="3480120" y="651240"/>
              <a:chExt cx="1825560" cy="947160"/>
            </a:xfrm>
          </p:grpSpPr>
          <p:graphicFrame>
            <p:nvGraphicFramePr>
              <p:cNvPr id="342" name="Object 18"/>
              <p:cNvGraphicFramePr/>
              <p:nvPr/>
            </p:nvGraphicFramePr>
            <p:xfrm>
              <a:off x="3480120" y="832680"/>
              <a:ext cx="736200" cy="289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43" name="Object 1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80120" y="832680"/>
                        <a:ext cx="736200" cy="28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4" name="Rectangle 19"/>
              <p:cNvSpPr/>
              <p:nvPr/>
            </p:nvSpPr>
            <p:spPr>
              <a:xfrm>
                <a:off x="4271400" y="651240"/>
                <a:ext cx="1034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阶行列式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18162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378000" y="750960"/>
          <a:ext cx="83880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750960"/>
                    <a:ext cx="83880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4"/>
          <p:cNvGraphicFramePr/>
          <p:nvPr/>
        </p:nvGraphicFramePr>
        <p:xfrm>
          <a:off x="1619280" y="4137120"/>
          <a:ext cx="496872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137120"/>
                    <a:ext cx="496872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Group 5"/>
          <p:cNvGrpSpPr/>
          <p:nvPr/>
        </p:nvGrpSpPr>
        <p:grpSpPr>
          <a:xfrm>
            <a:off x="401400" y="3161520"/>
            <a:ext cx="7696800" cy="999720"/>
            <a:chOff x="401400" y="3161520"/>
            <a:chExt cx="7696800" cy="999720"/>
          </a:xfrm>
        </p:grpSpPr>
        <p:graphicFrame>
          <p:nvGraphicFramePr>
            <p:cNvPr id="351" name="Object 6"/>
            <p:cNvGraphicFramePr/>
            <p:nvPr/>
          </p:nvGraphicFramePr>
          <p:xfrm>
            <a:off x="2124000" y="3274560"/>
            <a:ext cx="44928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24000" y="3274560"/>
                      <a:ext cx="44928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7"/>
            <p:cNvGraphicFramePr/>
            <p:nvPr/>
          </p:nvGraphicFramePr>
          <p:xfrm>
            <a:off x="3780000" y="3274560"/>
            <a:ext cx="792000" cy="356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80000" y="3274560"/>
                      <a:ext cx="7920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5" name="Object 8"/>
            <p:cNvGraphicFramePr/>
            <p:nvPr/>
          </p:nvGraphicFramePr>
          <p:xfrm>
            <a:off x="1403280" y="3813480"/>
            <a:ext cx="36036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56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03280" y="3813480"/>
                      <a:ext cx="36036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Rectangle 9"/>
            <p:cNvSpPr/>
            <p:nvPr/>
          </p:nvSpPr>
          <p:spPr>
            <a:xfrm>
              <a:off x="401400" y="316152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[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注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]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2268720" y="321588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中有某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5125680" y="3215880"/>
              <a:ext cx="29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时，可利用行列式的展开法则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1793520" y="3701520"/>
              <a:ext cx="14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展开，得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6689880" y="3246120"/>
              <a:ext cx="21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2"/>
          <p:cNvGraphicFramePr/>
          <p:nvPr/>
        </p:nvGraphicFramePr>
        <p:xfrm>
          <a:off x="2050920" y="652320"/>
          <a:ext cx="504036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652320"/>
                    <a:ext cx="504036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Group 3"/>
          <p:cNvGrpSpPr/>
          <p:nvPr/>
        </p:nvGrpSpPr>
        <p:grpSpPr>
          <a:xfrm>
            <a:off x="1329120" y="162720"/>
            <a:ext cx="5304600" cy="520560"/>
            <a:chOff x="1329120" y="162720"/>
            <a:chExt cx="5304600" cy="520560"/>
          </a:xfrm>
        </p:grpSpPr>
        <p:graphicFrame>
          <p:nvGraphicFramePr>
            <p:cNvPr id="365" name="Object 4"/>
            <p:cNvGraphicFramePr/>
            <p:nvPr/>
          </p:nvGraphicFramePr>
          <p:xfrm>
            <a:off x="4003920" y="251280"/>
            <a:ext cx="509760" cy="32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03920" y="251280"/>
                      <a:ext cx="50976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5"/>
            <p:cNvSpPr/>
            <p:nvPr/>
          </p:nvSpPr>
          <p:spPr>
            <a:xfrm>
              <a:off x="1329120" y="162720"/>
              <a:ext cx="28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计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"/>
            <p:cNvSpPr/>
            <p:nvPr/>
          </p:nvSpPr>
          <p:spPr>
            <a:xfrm>
              <a:off x="4807080" y="1922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阶行列式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加边法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Rectangle 7"/>
          <p:cNvSpPr/>
          <p:nvPr/>
        </p:nvSpPr>
        <p:spPr>
          <a:xfrm>
            <a:off x="1699200" y="2035080"/>
            <a:ext cx="50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]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个行列式的特点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除对角线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各列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别相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这一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将原行列式变形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8"/>
          <p:cNvGraphicFramePr/>
          <p:nvPr/>
        </p:nvGraphicFramePr>
        <p:xfrm>
          <a:off x="250920" y="2787480"/>
          <a:ext cx="8246880" cy="18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787480"/>
                    <a:ext cx="824688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18446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3"/>
          <p:cNvGraphicFramePr/>
          <p:nvPr/>
        </p:nvGraphicFramePr>
        <p:xfrm>
          <a:off x="611280" y="735120"/>
          <a:ext cx="68500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35120"/>
                    <a:ext cx="68500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928800"/>
            <a:ext cx="7696080" cy="1297800"/>
            <a:chOff x="1071720" y="928800"/>
            <a:chExt cx="7696080" cy="1297800"/>
          </a:xfrm>
        </p:grpSpPr>
        <p:sp>
          <p:nvSpPr>
            <p:cNvPr id="42" name="Text Box 3"/>
            <p:cNvSpPr/>
            <p:nvPr/>
          </p:nvSpPr>
          <p:spPr>
            <a:xfrm>
              <a:off x="1071720" y="92880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定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    阶行列式中，把元素      所在的第    行和第    列划去后，留下来的           阶行列式称为元素      的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余子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记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Object 4"/>
                <p:cNvSpPr txBox="1"/>
                <p:nvPr/>
              </p:nvSpPr>
              <p:spPr>
                <a:xfrm>
                  <a:off x="2600640" y="1101240"/>
                  <a:ext cx="239400" cy="18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Object 5"/>
                <p:cNvSpPr txBox="1"/>
                <p:nvPr/>
              </p:nvSpPr>
              <p:spPr>
                <a:xfrm>
                  <a:off x="6243840" y="995400"/>
                  <a:ext cx="500040" cy="40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Object 6"/>
                <p:cNvSpPr txBox="1"/>
                <p:nvPr/>
              </p:nvSpPr>
              <p:spPr>
                <a:xfrm>
                  <a:off x="8172720" y="1024920"/>
                  <a:ext cx="214200" cy="32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Object 7"/>
                <p:cNvSpPr txBox="1"/>
                <p:nvPr/>
              </p:nvSpPr>
              <p:spPr>
                <a:xfrm>
                  <a:off x="2314800" y="1458000"/>
                  <a:ext cx="2286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Object 8"/>
                <p:cNvSpPr txBox="1"/>
                <p:nvPr/>
              </p:nvSpPr>
              <p:spPr>
                <a:xfrm>
                  <a:off x="5842080" y="1458000"/>
                  <a:ext cx="86544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Object 9"/>
                <p:cNvSpPr txBox="1"/>
                <p:nvPr/>
              </p:nvSpPr>
              <p:spPr>
                <a:xfrm>
                  <a:off x="2286000" y="1856880"/>
                  <a:ext cx="4572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Object 10"/>
                <p:cNvSpPr txBox="1"/>
                <p:nvPr/>
              </p:nvSpPr>
              <p:spPr>
                <a:xfrm>
                  <a:off x="5286600" y="1856880"/>
                  <a:ext cx="6714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Line 11"/>
            <p:cNvSpPr/>
            <p:nvPr/>
          </p:nvSpPr>
          <p:spPr>
            <a:xfrm>
              <a:off x="3071880" y="2214000"/>
              <a:ext cx="1143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" name="Object 12"/>
              <p:cNvSpPr txBox="1"/>
              <p:nvPr/>
            </p:nvSpPr>
            <p:spPr>
              <a:xfrm>
                <a:off x="1143000" y="2286000"/>
                <a:ext cx="2860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记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" name="Group 13"/>
          <p:cNvGrpSpPr/>
          <p:nvPr/>
        </p:nvGrpSpPr>
        <p:grpSpPr>
          <a:xfrm>
            <a:off x="4729680" y="2286000"/>
            <a:ext cx="3178440" cy="520560"/>
            <a:chOff x="4729680" y="2286000"/>
            <a:chExt cx="3178440" cy="520560"/>
          </a:xfrm>
        </p:grpSpPr>
        <p:sp>
          <p:nvSpPr>
            <p:cNvPr id="53" name="Text Box 14"/>
            <p:cNvSpPr/>
            <p:nvPr/>
          </p:nvSpPr>
          <p:spPr>
            <a:xfrm>
              <a:off x="4729680" y="2286000"/>
              <a:ext cx="317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称为元素       的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代数余子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Object 15"/>
                <p:cNvSpPr txBox="1"/>
                <p:nvPr/>
              </p:nvSpPr>
              <p:spPr>
                <a:xfrm>
                  <a:off x="5572080" y="2357280"/>
                  <a:ext cx="53352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" name="Line 16"/>
          <p:cNvSpPr/>
          <p:nvPr/>
        </p:nvSpPr>
        <p:spPr>
          <a:xfrm>
            <a:off x="6500880" y="278604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292400" y="278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8"/>
              <p:cNvSpPr txBox="1"/>
              <p:nvPr/>
            </p:nvSpPr>
            <p:spPr>
              <a:xfrm>
                <a:off x="1285920" y="2857680"/>
                <a:ext cx="36194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Line 19"/>
          <p:cNvSpPr/>
          <p:nvPr/>
        </p:nvSpPr>
        <p:spPr>
          <a:xfrm>
            <a:off x="2071800" y="3500280"/>
            <a:ext cx="26668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 flipV="1">
            <a:off x="3714840" y="3000240"/>
            <a:ext cx="0" cy="148608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1"/>
              <p:cNvSpPr txBox="1"/>
              <p:nvPr/>
            </p:nvSpPr>
            <p:spPr>
              <a:xfrm>
                <a:off x="5143680" y="2857680"/>
                <a:ext cx="31622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5072040" y="4143240"/>
                <a:ext cx="26290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3"/>
              <p:cNvSpPr txBox="1"/>
              <p:nvPr/>
            </p:nvSpPr>
            <p:spPr>
              <a:xfrm>
                <a:off x="7643880" y="4143240"/>
                <a:ext cx="12700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24">
            <a:hlinkClick r:id="rId1"/>
          </p:cNvPr>
          <p:cNvSpPr/>
          <p:nvPr/>
        </p:nvSpPr>
        <p:spPr>
          <a:xfrm>
            <a:off x="7804080" y="513252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>
            <a:hlinkClick r:id="rId2"/>
          </p:cNvPr>
          <p:cNvSpPr/>
          <p:nvPr/>
        </p:nvSpPr>
        <p:spPr>
          <a:xfrm>
            <a:off x="6816600" y="512604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2543040" y="3445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余子式与代数余子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3409920" y="247680"/>
          <a:ext cx="26640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9920" y="247680"/>
                    <a:ext cx="2664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3"/>
          <p:cNvGraphicFramePr/>
          <p:nvPr/>
        </p:nvGraphicFramePr>
        <p:xfrm>
          <a:off x="900000" y="2030400"/>
          <a:ext cx="57596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030400"/>
                    <a:ext cx="5759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4"/>
          <p:cNvSpPr/>
          <p:nvPr/>
        </p:nvSpPr>
        <p:spPr>
          <a:xfrm>
            <a:off x="1729800" y="626040"/>
            <a:ext cx="15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621440" y="1463400"/>
            <a:ext cx="56134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       的余子式和代数余子式依次记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88520" y="2575440"/>
            <a:ext cx="10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Object 7"/>
          <p:cNvGraphicFramePr/>
          <p:nvPr/>
        </p:nvGraphicFramePr>
        <p:xfrm>
          <a:off x="826920" y="2841480"/>
          <a:ext cx="712800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41480"/>
                    <a:ext cx="71280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8"/>
          <p:cNvGraphicFramePr/>
          <p:nvPr/>
        </p:nvGraphicFramePr>
        <p:xfrm>
          <a:off x="1763640" y="1544760"/>
          <a:ext cx="45900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1544760"/>
                    <a:ext cx="45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1932120" y="520560"/>
          <a:ext cx="59767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2120" y="520560"/>
                    <a:ext cx="5976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3"/>
          <p:cNvGraphicFramePr/>
          <p:nvPr/>
        </p:nvGraphicFramePr>
        <p:xfrm>
          <a:off x="1787400" y="1625760"/>
          <a:ext cx="6264360" cy="39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7400" y="1625760"/>
                    <a:ext cx="62643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4"/>
          <p:cNvSpPr/>
          <p:nvPr/>
        </p:nvSpPr>
        <p:spPr>
          <a:xfrm>
            <a:off x="6581160" y="18669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615000" y="2646360"/>
            <a:ext cx="21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Object 6"/>
          <p:cNvGraphicFramePr/>
          <p:nvPr/>
        </p:nvGraphicFramePr>
        <p:xfrm>
          <a:off x="3083040" y="2205000"/>
          <a:ext cx="496872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3040" y="2205000"/>
                    <a:ext cx="496872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7"/>
          <p:cNvGraphicFramePr/>
          <p:nvPr/>
        </p:nvGraphicFramePr>
        <p:xfrm>
          <a:off x="2979720" y="3487680"/>
          <a:ext cx="455940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9720" y="3487680"/>
                    <a:ext cx="45594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8"/>
          <p:cNvSpPr/>
          <p:nvPr/>
        </p:nvSpPr>
        <p:spPr>
          <a:xfrm>
            <a:off x="0" y="2416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1636560" y="453960"/>
                <a:ext cx="35560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Line 3"/>
          <p:cNvSpPr/>
          <p:nvPr/>
        </p:nvSpPr>
        <p:spPr>
          <a:xfrm>
            <a:off x="2208240" y="649440"/>
            <a:ext cx="2590920" cy="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268800" y="534960"/>
            <a:ext cx="0" cy="160020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5462640" y="649440"/>
                <a:ext cx="3111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143000" y="1996920"/>
                <a:ext cx="2577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809880" y="2054160"/>
                <a:ext cx="1257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8"/>
          <p:cNvSpPr/>
          <p:nvPr/>
        </p:nvSpPr>
        <p:spPr>
          <a:xfrm>
            <a:off x="2220840" y="1901880"/>
            <a:ext cx="2971800" cy="0"/>
          </a:xfrm>
          <a:prstGeom prst="line">
            <a:avLst/>
          </a:prstGeom>
          <a:ln cap="rnd" w="3816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799160" y="339840"/>
            <a:ext cx="0" cy="1657080"/>
          </a:xfrm>
          <a:prstGeom prst="line">
            <a:avLst/>
          </a:prstGeom>
          <a:ln cap="rnd" w="284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1143000" y="2500200"/>
                <a:ext cx="3124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572000" y="2857680"/>
                <a:ext cx="36068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4681440" y="4133880"/>
                <a:ext cx="1177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Rectangle 13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4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5"/>
              <p:cNvSpPr txBox="1"/>
              <p:nvPr/>
            </p:nvSpPr>
            <p:spPr>
              <a:xfrm>
                <a:off x="1071720" y="3786120"/>
                <a:ext cx="69976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注</m:t>
                        </m:r>
                        <m:r>
                          <m:rPr>
                            <m:lit/>
                            <m:nor/>
                          </m:rPr>
                          <m:t xml:space="preserve">：行列式的每个元素分别对应着一个余子式和一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个代数余子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3191040" y="1189080"/>
                <a:ext cx="5029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1133640" y="90324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Rectangle 4"/>
          <p:cNvSpPr/>
          <p:nvPr/>
        </p:nvSpPr>
        <p:spPr>
          <a:xfrm>
            <a:off x="1133640" y="960480"/>
            <a:ext cx="2057400" cy="285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571920" y="1531800"/>
            <a:ext cx="1066680" cy="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571920" y="1932120"/>
            <a:ext cx="1066680" cy="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5172120" y="1531800"/>
            <a:ext cx="1143000" cy="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>
            <a:off x="5172120" y="1932120"/>
            <a:ext cx="1143000" cy="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>
            <a:off x="6620040" y="1531800"/>
            <a:ext cx="11430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6772320" y="19321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314360" y="2279520"/>
                <a:ext cx="2971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2"/>
              <p:cNvSpPr txBox="1"/>
              <p:nvPr/>
            </p:nvSpPr>
            <p:spPr>
              <a:xfrm>
                <a:off x="4286160" y="2279520"/>
                <a:ext cx="295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619280" y="2679840"/>
                <a:ext cx="29592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1258920" y="3274920"/>
                <a:ext cx="603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Line 15"/>
          <p:cNvSpPr/>
          <p:nvPr/>
        </p:nvSpPr>
        <p:spPr>
          <a:xfrm>
            <a:off x="1285920" y="84600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2124000" y="789120"/>
            <a:ext cx="0" cy="12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886120" y="789120"/>
            <a:ext cx="0" cy="12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8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9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20"/>
          <p:cNvGraphicFramePr/>
          <p:nvPr/>
        </p:nvGraphicFramePr>
        <p:xfrm>
          <a:off x="1403280" y="4192560"/>
          <a:ext cx="43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192560"/>
                    <a:ext cx="43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839880" y="752400"/>
            <a:ext cx="7696080" cy="1154520"/>
            <a:chOff x="839880" y="752400"/>
            <a:chExt cx="7696080" cy="1154520"/>
          </a:xfrm>
        </p:grpSpPr>
        <p:sp>
          <p:nvSpPr>
            <p:cNvPr id="101" name="Text Box 3"/>
            <p:cNvSpPr/>
            <p:nvPr/>
          </p:nvSpPr>
          <p:spPr>
            <a:xfrm>
              <a:off x="839880" y="752400"/>
              <a:ext cx="76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引理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一个  阶行列式，如果其中第  行所有元素除  外都为零，那末这行列式等于  与它的代数余子式的乘积，即         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1818000" y="1536840"/>
                  <a:ext cx="14601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5"/>
                <p:cNvSpPr txBox="1"/>
                <p:nvPr/>
              </p:nvSpPr>
              <p:spPr>
                <a:xfrm>
                  <a:off x="2651400" y="871200"/>
                  <a:ext cx="239400" cy="1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6"/>
                <p:cNvSpPr txBox="1"/>
                <p:nvPr/>
              </p:nvSpPr>
              <p:spPr>
                <a:xfrm>
                  <a:off x="6031080" y="871200"/>
                  <a:ext cx="16344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7"/>
                <p:cNvSpPr txBox="1"/>
                <p:nvPr/>
              </p:nvSpPr>
              <p:spPr>
                <a:xfrm>
                  <a:off x="8182080" y="809280"/>
                  <a:ext cx="35388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8"/>
                <p:cNvSpPr txBox="1"/>
                <p:nvPr/>
              </p:nvSpPr>
              <p:spPr>
                <a:xfrm>
                  <a:off x="4919760" y="1166760"/>
                  <a:ext cx="35388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3187800" y="1800360"/>
                <a:ext cx="35938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3382920" y="3394080"/>
                <a:ext cx="40640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11"/>
          <p:cNvSpPr/>
          <p:nvPr/>
        </p:nvSpPr>
        <p:spPr>
          <a:xfrm>
            <a:off x="1373400" y="2309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例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2180880" y="415800"/>
            <a:ext cx="4158360" cy="550080"/>
            <a:chOff x="2180880" y="415800"/>
            <a:chExt cx="4158360" cy="550080"/>
          </a:xfrm>
        </p:grpSpPr>
        <p:sp>
          <p:nvSpPr>
            <p:cNvPr id="113" name="Text Box 3"/>
            <p:cNvSpPr/>
            <p:nvPr/>
          </p:nvSpPr>
          <p:spPr>
            <a:xfrm>
              <a:off x="2180880" y="415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4"/>
            <p:cNvSpPr/>
            <p:nvPr/>
          </p:nvSpPr>
          <p:spPr>
            <a:xfrm>
              <a:off x="4239720" y="445320"/>
              <a:ext cx="20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      位于第一行第一列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5"/>
                <p:cNvSpPr txBox="1"/>
                <p:nvPr/>
              </p:nvSpPr>
              <p:spPr>
                <a:xfrm>
                  <a:off x="3819240" y="558720"/>
                  <a:ext cx="355680" cy="35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2506680" y="969840"/>
                <a:ext cx="30733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Text Box 7"/>
          <p:cNvSpPr/>
          <p:nvPr/>
        </p:nvSpPr>
        <p:spPr>
          <a:xfrm>
            <a:off x="611280" y="23558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8"/>
          <p:cNvGraphicFramePr/>
          <p:nvPr/>
        </p:nvGraphicFramePr>
        <p:xfrm>
          <a:off x="1428840" y="2357280"/>
          <a:ext cx="38876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357280"/>
                    <a:ext cx="38876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9"/>
          <p:cNvSpPr/>
          <p:nvPr/>
        </p:nvSpPr>
        <p:spPr>
          <a:xfrm>
            <a:off x="687240" y="3755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1071720" y="3714840"/>
                <a:ext cx="2852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3929040" y="3786120"/>
                <a:ext cx="1138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2"/>
          <p:cNvSpPr/>
          <p:nvPr/>
        </p:nvSpPr>
        <p:spPr>
          <a:xfrm>
            <a:off x="5293080" y="3714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6143760" y="3786120"/>
                <a:ext cx="2025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4"/>
          <p:cNvSpPr/>
          <p:nvPr/>
        </p:nvSpPr>
        <p:spPr>
          <a:xfrm>
            <a:off x="2324520" y="4214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证一般情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429080" y="42148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6">
            <a:hlinkClick r:id="rId3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>
            <a:hlinkClick r:id="rId4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8"/>
          <p:cNvGraphicFramePr/>
          <p:nvPr/>
        </p:nvGraphicFramePr>
        <p:xfrm>
          <a:off x="5357880" y="2357280"/>
          <a:ext cx="331308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7880" y="2357280"/>
                    <a:ext cx="33130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9"/>
          <p:cNvGraphicFramePr/>
          <p:nvPr/>
        </p:nvGraphicFramePr>
        <p:xfrm>
          <a:off x="1785960" y="2928960"/>
          <a:ext cx="374004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5960" y="2928960"/>
                    <a:ext cx="3740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20"/>
          <p:cNvGraphicFramePr/>
          <p:nvPr/>
        </p:nvGraphicFramePr>
        <p:xfrm>
          <a:off x="5572080" y="3143160"/>
          <a:ext cx="12556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2080" y="3143160"/>
                    <a:ext cx="1255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7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7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2286000" y="339840"/>
                <a:ext cx="401328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Object 3"/>
          <p:cNvGraphicFramePr/>
          <p:nvPr/>
        </p:nvGraphicFramePr>
        <p:xfrm>
          <a:off x="838080" y="2400480"/>
          <a:ext cx="71186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00480"/>
                    <a:ext cx="7118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100476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1555920" y="2657520"/>
          <a:ext cx="577836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2657520"/>
                    <a:ext cx="57783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4419720" y="1139760"/>
                <a:ext cx="355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5076720" y="2643120"/>
                <a:ext cx="355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Rectangle 8">
            <a:hlinkClick r:id="rId5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>
            <a:hlinkClick r:id="rId6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941400" y="887400"/>
                <a:ext cx="7777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再把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的第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列依次与第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列</m:t>
                        </m:r>
                        <m:r>
                          <m:t xml:space="preserve">,</m:t>
                        </m:r>
                        <m:r>
                          <m:t xml:space="preserve">第j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列</m:t>
                        </m:r>
                        <m:r>
                          <m:t xml:space="preserve">,</m:t>
                        </m:r>
                        <m:r>
                          <m:t xml:space="preserve">第</m:t>
                        </m:r>
                        <m:r>
                          <m:t xml:space="preserve">1</m:t>
                        </m:r>
                        <m:r>
                          <m:t xml:space="preserve">列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调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993680" y="11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785880" y="1857240"/>
                <a:ext cx="723888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Rectangle 6">
            <a:hlinkClick r:id="rId1"/>
          </p:cNvPr>
          <p:cNvSpPr/>
          <p:nvPr/>
        </p:nvSpPr>
        <p:spPr>
          <a:xfrm>
            <a:off x="7769160" y="4805280"/>
            <a:ext cx="609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>
            <a:hlinkClick r:id="rId2"/>
          </p:cNvPr>
          <p:cNvSpPr/>
          <p:nvPr/>
        </p:nvSpPr>
        <p:spPr>
          <a:xfrm>
            <a:off x="6781680" y="4800600"/>
            <a:ext cx="685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1:57:37Z</dcterms:created>
  <dc:creator/>
  <dc:description/>
  <cp:keywords/>
  <dc:language>en-US</dc:language>
  <cp:lastModifiedBy>lisiyan</cp:lastModifiedBy>
  <dcterms:modified xsi:type="dcterms:W3CDTF">2017-06-06T13:58:5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